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3.png" ContentType="image/png"/>
  <Override PartName="/ppt/media/image52.png" ContentType="image/png"/>
  <Override PartName="/ppt/media/image51.jpeg" ContentType="image/jpeg"/>
  <Override PartName="/ppt/media/image46.png" ContentType="image/png"/>
  <Override PartName="/ppt/media/image55.png" ContentType="image/png"/>
  <Override PartName="/ppt/media/image45.jpeg" ContentType="image/jpeg"/>
  <Override PartName="/ppt/media/image48.png" ContentType="image/png"/>
  <Override PartName="/ppt/media/image44.png" ContentType="image/png"/>
  <Override PartName="/ppt/media/image42.png" ContentType="image/png"/>
  <Override PartName="/ppt/media/image11.png" ContentType="image/png"/>
  <Override PartName="/ppt/media/image49.jpeg" ContentType="image/jpe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60.png" ContentType="image/png"/>
  <Override PartName="/ppt/media/image20.png" ContentType="image/png"/>
  <Override PartName="/ppt/media/image57.png" ContentType="image/png"/>
  <Override PartName="/ppt/media/image19.png" ContentType="image/png"/>
  <Override PartName="/ppt/media/image2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8.png" ContentType="image/png"/>
  <Override PartName="/ppt/media/image31.png" ContentType="image/png"/>
  <Override PartName="/ppt/media/image67.jpeg" ContentType="image/jpeg"/>
  <Override PartName="/ppt/media/image69.png" ContentType="image/png"/>
  <Override PartName="/ppt/media/image32.png" ContentType="image/png"/>
  <Override PartName="/ppt/media/image65.png" ContentType="image/png"/>
  <Override PartName="/ppt/media/image58.png" ContentType="image/png"/>
  <Override PartName="/ppt/media/image3.wmf" ContentType="image/x-wmf"/>
  <Override PartName="/ppt/media/image15.jpeg" ContentType="image/jpeg"/>
  <Override PartName="/ppt/media/image64.png" ContentType="image/png"/>
  <Override PartName="/ppt/media/image63.wmf" ContentType="image/x-wmf"/>
  <Override PartName="/ppt/media/image23.png" ContentType="image/png"/>
  <Override PartName="/ppt/media/image29.png" ContentType="image/png"/>
  <Override PartName="/ppt/media/image62.png" ContentType="image/png"/>
  <Override PartName="/ppt/media/image27.png" ContentType="image/png"/>
  <Override PartName="/ppt/media/image26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4.jpeg" ContentType="image/jpeg"/>
  <Override PartName="/ppt/media/image8.wmf" ContentType="image/x-wmf"/>
  <Override PartName="/ppt/media/image40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1.png" ContentType="image/png"/>
  <Override PartName="/ppt/media/image13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12.png" ContentType="image/png"/>
  <Override PartName="/ppt/media/image30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43.jpeg" ContentType="image/jpeg"/>
  <Override PartName="/ppt/media/image28.png" ContentType="image/png"/>
  <Override PartName="/ppt/media/image9.jpeg" ContentType="image/jpeg"/>
  <Override PartName="/ppt/media/image36.png" ContentType="image/png"/>
  <Override PartName="/ppt/media/image37.png" ContentType="image/png"/>
  <Override PartName="/ppt/media/image38.png" ContentType="image/png"/>
  <Override PartName="/ppt/media/image39.png" ContentType="image/png"/>
  <Override PartName="/ppt/media/image66.png" ContentType="image/png"/>
  <Override PartName="/ppt/media/image41.jpeg" ContentType="image/jpeg"/>
  <Override PartName="/ppt/media/image5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4328-100B-4D1B-9EA8-BBCA4B3F2785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9F1D-04CE-4C6C-885B-8659811770A0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A6EC-605F-4028-8D97-690B0A72B1D4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4B6D-3B9E-4031-847B-D98B1884AF0D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97A1-525B-40FA-BC48-D0224080C1EC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DAFA-31BC-495E-95C8-BDF7C62037AF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8CC2-7514-4188-BB33-5E8FA04B91DC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EEC1-F163-497A-9360-A2541ECD7C43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5BA8-9509-4DB9-9D6E-A7DA43E061E9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A224-3D27-4271-87D8-70E5E8550FCC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E8A8-2E92-4AEE-807A-59EDA11C77F2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EB8E-0F43-4229-AF5E-126EDE5A50C0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6966-16EC-47A3-B500-62AC3951FB63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2070-96F8-4216-9A31-D3EC4B914AE7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C143-C8E1-436B-BB23-5C577269FA97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C945-46BC-499C-A75C-E82D7841F86D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8DB9-296B-42E5-8AA2-288C4994FD98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59DD-FD3D-4EE5-B15B-4C1A64765AB9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B651-846B-4433-9BD6-71AA2DD654A5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4300-5DD7-431A-928F-C49060763272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A321-E3C4-44DE-A0C0-7FD3CB30D6AB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A4AB-8BC9-406B-BE25-8BB893D9634E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3991-78C1-4D23-BCC8-9D3D08482634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A99D-2ED3-4394-B20C-3FE4FBBBF8C3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B7D1-3672-4390-ACEB-8076685D75A8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5548-5C0D-4AF3-A566-BF0455E8446A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A680-5CCB-4EC3-B0B7-470F7A129CEA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740D-EECD-4C76-B2D8-A4A8FE6A5E6D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Wissensmanagemen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36F5-92B3-4599-90AE-6443FE9956C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6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77AA-E412-4B6E-BFDA-5EC25913CBBF}" type="slidenum">
              <a:rPr b="0" lang="de-DE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38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306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17DD-8787-4FD1-9456-0B203A99B20C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6066-770C-437F-8313-9E33865BC969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Wissensmanagemen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E604-11C8-4872-B646-6DC2BF02EA4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5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315A-FBBC-4029-B889-1C8911BECD53}" type="slidenum">
              <a:rPr b="0" lang="de-DE" sz="11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-1065240" y="2163600"/>
            <a:ext cx="8982000" cy="67374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1196640" y="1069920"/>
            <a:ext cx="451476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1888-C2D1-4DB6-BA46-563F41765438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0B09-11EE-43F7-8EF2-9F64550B2604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21C8-7BAA-4EA2-8E27-9C331DF3E321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271B-A4F7-45F5-A7F6-832BB13A6C69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D078-7012-41FD-83B4-8A36A526302F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E4A9-6239-4B72-B8CD-0D11C4A289E1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0DA8-929F-4281-8C19-C595744EE926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AE32-2ADC-4DE0-9DD6-4AB442E5B4E0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B9649-3235-430E-9420-6B1EF7007A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55F34-C949-4D66-87AE-4972933EC8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95711-E8E3-48DA-BF39-1BB0F65C83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795FA-950A-4E1A-BF52-54966ADD86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67BCE-BDE3-4278-BFA7-F7BC2B3AA5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4004F-4BE8-4ED2-8496-3D4605D84D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D2D3E-10F5-433B-AA6A-5E2F89AA4F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DA1AA-B109-48F3-A37F-72BD941CA3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FCDF2-DE8D-472B-B22A-0D8B048193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E34AD-D21B-4CD0-AB82-65DD1A2EEC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F89A7-F1AC-48C3-A544-95AE20BE5A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E3472-C069-490A-8A5A-D019DF5ADF7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248920" indent="-224892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248920" indent="-224892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248920" indent="-224892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cfefe"/>
              </a:gs>
              <a:gs pos="100000">
                <a:srgbClr val="de33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sldNum" idx="1"/>
          </p:nvPr>
        </p:nvSpPr>
        <p:spPr>
          <a:xfrm>
            <a:off x="12674160" y="939780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8086-DE39-4CF4-AD65-FCB14D384A4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emantic-web-grundlagen.de/index.php/Kapitel_1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jpeg"/><Relationship Id="rId13" Type="http://schemas.openxmlformats.org/officeDocument/2006/relationships/image" Target="../media/image42.png"/><Relationship Id="rId14" Type="http://schemas.openxmlformats.org/officeDocument/2006/relationships/image" Target="../media/image43.jpeg"/><Relationship Id="rId15" Type="http://schemas.openxmlformats.org/officeDocument/2006/relationships/image" Target="../media/image44.png"/><Relationship Id="rId16" Type="http://schemas.openxmlformats.org/officeDocument/2006/relationships/image" Target="../media/image45.jpeg"/><Relationship Id="rId17" Type="http://schemas.openxmlformats.org/officeDocument/2006/relationships/image" Target="../media/image46.png"/><Relationship Id="rId18" Type="http://schemas.openxmlformats.org/officeDocument/2006/relationships/image" Target="../media/image47.png"/><Relationship Id="rId19" Type="http://schemas.openxmlformats.org/officeDocument/2006/relationships/image" Target="../media/image48.png"/><Relationship Id="rId20" Type="http://schemas.openxmlformats.org/officeDocument/2006/relationships/image" Target="../media/image49.jpeg"/><Relationship Id="rId21" Type="http://schemas.openxmlformats.org/officeDocument/2006/relationships/image" Target="../media/image50.png"/><Relationship Id="rId22" Type="http://schemas.openxmlformats.org/officeDocument/2006/relationships/image" Target="../media/image50.png"/><Relationship Id="rId23" Type="http://schemas.openxmlformats.org/officeDocument/2006/relationships/image" Target="../media/image51.jpeg"/><Relationship Id="rId24" Type="http://schemas.openxmlformats.org/officeDocument/2006/relationships/image" Target="../media/image52.png"/><Relationship Id="rId25" Type="http://schemas.openxmlformats.org/officeDocument/2006/relationships/image" Target="../media/image53.png"/><Relationship Id="rId26" Type="http://schemas.openxmlformats.org/officeDocument/2006/relationships/image" Target="../media/image54.png"/><Relationship Id="rId27" Type="http://schemas.openxmlformats.org/officeDocument/2006/relationships/image" Target="../media/image55.png"/><Relationship Id="rId28" Type="http://schemas.openxmlformats.org/officeDocument/2006/relationships/image" Target="../media/image56.png"/><Relationship Id="rId29" Type="http://schemas.openxmlformats.org/officeDocument/2006/relationships/image" Target="../media/image57.png"/><Relationship Id="rId30" Type="http://schemas.openxmlformats.org/officeDocument/2006/relationships/image" Target="../media/image58.png"/><Relationship Id="rId31" Type="http://schemas.openxmlformats.org/officeDocument/2006/relationships/image" Target="../media/image59.png"/><Relationship Id="rId32" Type="http://schemas.openxmlformats.org/officeDocument/2006/relationships/image" Target="../media/image60.png"/><Relationship Id="rId33" Type="http://schemas.openxmlformats.org/officeDocument/2006/relationships/image" Target="../media/image61.png"/><Relationship Id="rId34" Type="http://schemas.openxmlformats.org/officeDocument/2006/relationships/image" Target="../media/image62.png"/><Relationship Id="rId35" Type="http://schemas.openxmlformats.org/officeDocument/2006/relationships/image" Target="../media/image63.wmf"/><Relationship Id="rId36" Type="http://schemas.openxmlformats.org/officeDocument/2006/relationships/image" Target="../media/image64.png"/><Relationship Id="rId37" Type="http://schemas.openxmlformats.org/officeDocument/2006/relationships/image" Target="../media/image65.png"/><Relationship Id="rId38" Type="http://schemas.openxmlformats.org/officeDocument/2006/relationships/image" Target="../media/image66.png"/><Relationship Id="rId39" Type="http://schemas.openxmlformats.org/officeDocument/2006/relationships/image" Target="../media/image67.jpeg"/><Relationship Id="rId40" Type="http://schemas.openxmlformats.org/officeDocument/2006/relationships/image" Target="../media/image68.png"/><Relationship Id="rId41" Type="http://schemas.openxmlformats.org/officeDocument/2006/relationships/image" Target="../media/image69.png"/><Relationship Id="rId42" Type="http://schemas.openxmlformats.org/officeDocument/2006/relationships/slideLayout" Target="../slideLayouts/slideLayout13.xml"/><Relationship Id="rId4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ascal-hitzler.de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Lehrveranstaltung im WS08/09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PD Dr. Pascal Hitzler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D332-FC12-429A-9701-55E205DE154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200" spc="-1" strike="noStrike">
                <a:solidFill>
                  <a:srgbClr val="000000"/>
                </a:solidFill>
                <a:latin typeface="Bodoni SvtyTwo SC ITC TT-Book"/>
              </a:rPr>
              <a:t>Prüfung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Vorraussichtlich mündlich (20min).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Termin vermutlich Ende Februar (wird noch festgelegt)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Anmeldezeitraum </a:t>
            </a:r>
            <a:br>
              <a:rPr sz="4200"/>
            </a:b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02.01.2009 – 02.02.2009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B4C0-700C-45AE-8D68-25242B949B2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rganisatorisches: Inhal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957240" y="2428920"/>
          <a:ext cx="11163240" cy="6665760"/>
        </p:xfrm>
        <a:graphic>
          <a:graphicData uri="http://schemas.openxmlformats.org/drawingml/2006/table">
            <a:tbl>
              <a:tblPr/>
              <a:tblGrid>
                <a:gridCol w="2546280"/>
                <a:gridCol w="6026400"/>
                <a:gridCol w="2590560"/>
              </a:tblGrid>
              <a:tr h="4428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 Okto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. Okto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 Novem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 Novem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. Novem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scal Hitzl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 Novem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Dezem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 Dezembe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 Dezem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us Krötzsc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 Janua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us Krötzsc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 Janua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/Einführung Regelsprach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us Krötzsc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 Janua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im Semantic Web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us Krötzsc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. Janua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icht aus der Prax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 Februa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 – Syntax und Semanti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us Krötzsc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 Februa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- Anwendun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scal Hitzl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13D3-861B-42EB-AA77-64E93904820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rganisatorisches: Inhal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Übungstermine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03.11.2008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17.11.2008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01.12.2008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15.12.2008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12.01.2009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26.01.2009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09.02.2009 (mit Konsultation/Fragestunde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39E6-AEB5-47AC-A9CA-3EC683F85AF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iteratu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itzler, Krötzsch, Rudolph, Sure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Sematic Web. Grundlagen."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pringer-Verlag, 2008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ckt die meisten Inhalte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r Vorlesung ab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01" name="Picture 3" descr=""/>
          <p:cNvPicPr/>
          <p:nvPr/>
        </p:nvPicPr>
        <p:blipFill>
          <a:blip r:embed="rId1"/>
          <a:srcRect l="17454" t="197" r="17454" b="801"/>
          <a:stretch/>
        </p:blipFill>
        <p:spPr>
          <a:xfrm>
            <a:off x="9509040" y="4483080"/>
            <a:ext cx="2730600" cy="4152960"/>
          </a:xfrm>
          <a:prstGeom prst="rect">
            <a:avLst/>
          </a:prstGeom>
          <a:ln w="0">
            <a:noFill/>
          </a:ln>
          <a:effectLst>
            <a:outerShdw dist="114419" dir="7562437" blurRad="0" rotWithShape="0">
              <a:srgbClr val="000000">
                <a:alpha val="95000"/>
              </a:srgbClr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A026-44B3-4110-ABFE-5590337965B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orstellung der Doze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rganisatorisches zur Vorlesung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Was ist das "Semantic Web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Semantic Karlsruhe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63360" y="9423360"/>
            <a:ext cx="128653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 Neue"/>
              </a:rPr>
              <a:t>entspricht Kapitel 1 des Buches „Semantic Web - Grundlagen“ - siehe auch 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www.semantic-web-grundlagen.de/index.php/Kapitel_1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FEE9-1170-42EE-8BA9-599342D11CE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69720" y="2019240"/>
            <a:ext cx="10464840" cy="530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Das Web flankiert den Übergang von der Industrie- zur Informationsgesellschaft und bietet die Infrastruktur für eine neue Qualität des Umgangs mit Inform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                     hinsichtlich Beschaffu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                     wie auch Bereitstellung. 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09" name="Picture 3" descr=""/>
          <p:cNvPicPr/>
          <p:nvPr/>
        </p:nvPicPr>
        <p:blipFill>
          <a:blip r:embed="rId1"/>
          <a:stretch/>
        </p:blipFill>
        <p:spPr>
          <a:xfrm>
            <a:off x="-1473120" y="4910040"/>
            <a:ext cx="6337080" cy="499104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4"/>
          <p:cNvSpPr/>
          <p:nvPr/>
        </p:nvSpPr>
        <p:spPr>
          <a:xfrm>
            <a:off x="5423040" y="5524560"/>
            <a:ext cx="684504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ohe Verfügbarkei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ohe Aktualitä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eringe Koste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C009-0342-4C7F-9CA6-6EE73A60182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14400" y="2018880"/>
            <a:ext cx="11747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merzialisierung in allen Größenordn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14" name="Picture 3" descr=""/>
          <p:cNvPicPr/>
          <p:nvPr/>
        </p:nvPicPr>
        <p:blipFill>
          <a:blip r:embed="rId1"/>
          <a:srcRect l="0" t="9114" r="2248" b="5728"/>
          <a:stretch/>
        </p:blipFill>
        <p:spPr>
          <a:xfrm>
            <a:off x="431640" y="4800600"/>
            <a:ext cx="6350040" cy="4152960"/>
          </a:xfrm>
          <a:prstGeom prst="rect">
            <a:avLst/>
          </a:prstGeom>
          <a:ln w="0">
            <a:noFill/>
          </a:ln>
          <a:effectLst>
            <a:outerShdw dist="114189" dir="6663806" blurRad="0" rotWithShape="0">
              <a:srgbClr val="000000">
                <a:alpha val="95000"/>
              </a:srgbClr>
            </a:outerShdw>
          </a:effectLst>
        </p:spPr>
      </p:pic>
      <p:pic>
        <p:nvPicPr>
          <p:cNvPr id="415" name="Picture 4" descr=""/>
          <p:cNvPicPr/>
          <p:nvPr/>
        </p:nvPicPr>
        <p:blipFill>
          <a:blip r:embed="rId2"/>
          <a:srcRect l="844" t="13271" r="2291" b="15084"/>
          <a:stretch/>
        </p:blipFill>
        <p:spPr>
          <a:xfrm>
            <a:off x="5062680" y="3581280"/>
            <a:ext cx="6806880" cy="4030920"/>
          </a:xfrm>
          <a:prstGeom prst="rect">
            <a:avLst/>
          </a:prstGeom>
          <a:ln w="0">
            <a:noFill/>
          </a:ln>
          <a:effectLst>
            <a:outerShdw dist="114189" dir="6663806" blurRad="0" rotWithShape="0">
              <a:srgbClr val="000000">
                <a:alpha val="95000"/>
              </a:srgbClr>
            </a:outerShdw>
          </a:effectLst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0309-6D7D-4DA8-AEFB-B9D2D5AB668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45960" y="2355480"/>
            <a:ext cx="107694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eitere Lebensbereiche werden "webisiert"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hörden, Verwaltung (eGovernment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usbildung (eLearning, eEducatio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ozialkontakte (Social-Networking-Plattformen, Partnerbör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ltag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19" name="Picture 3" descr=""/>
          <p:cNvPicPr/>
          <p:nvPr/>
        </p:nvPicPr>
        <p:blipFill>
          <a:blip r:embed="rId1"/>
          <a:srcRect l="18565" t="8593" r="35911" b="57682"/>
          <a:stretch/>
        </p:blipFill>
        <p:spPr>
          <a:xfrm>
            <a:off x="4356000" y="7086600"/>
            <a:ext cx="5754960" cy="2666880"/>
          </a:xfrm>
          <a:prstGeom prst="rect">
            <a:avLst/>
          </a:prstGeom>
          <a:ln w="0">
            <a:noFill/>
          </a:ln>
          <a:effectLst>
            <a:outerShdw dist="114205" dir="11103818" blurRad="0" rotWithShape="0">
              <a:srgbClr val="000000">
                <a:alpha val="95000"/>
              </a:srgbClr>
            </a:outerShdw>
          </a:effectLst>
        </p:spPr>
      </p:pic>
      <p:sp>
        <p:nvSpPr>
          <p:cNvPr id="420" name="Text Box 4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214E-DE77-4CDE-A534-A039D046413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40E0-1CC2-4EE7-BC3B-6D306628505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2" name="Picture 1" descr=""/>
          <p:cNvPicPr/>
          <p:nvPr/>
        </p:nvPicPr>
        <p:blipFill>
          <a:blip r:embed="rId1"/>
          <a:srcRect l="0" t="10279" r="1785" b="6484"/>
          <a:stretch/>
        </p:blipFill>
        <p:spPr>
          <a:xfrm>
            <a:off x="8447040" y="0"/>
            <a:ext cx="5600880" cy="3508200"/>
          </a:xfrm>
          <a:prstGeom prst="rect">
            <a:avLst/>
          </a:prstGeom>
          <a:ln w="0">
            <a:noFill/>
          </a:ln>
          <a:effectLst>
            <a:outerShdw dist="114189" dir="6663806" blurRad="0" rotWithShape="0">
              <a:srgbClr val="000000">
                <a:alpha val="95000"/>
              </a:srgbClr>
            </a:outerShdw>
          </a:effectLst>
        </p:spPr>
      </p:pic>
      <p:pic>
        <p:nvPicPr>
          <p:cNvPr id="423" name="Picture 2" descr=""/>
          <p:cNvPicPr/>
          <p:nvPr/>
        </p:nvPicPr>
        <p:blipFill>
          <a:blip r:embed="rId2"/>
          <a:srcRect l="899" t="662" r="0" b="2647"/>
          <a:stretch/>
        </p:blipFill>
        <p:spPr>
          <a:xfrm>
            <a:off x="8518680" y="844560"/>
            <a:ext cx="785520" cy="104148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33600" y="196920"/>
            <a:ext cx="102614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bleme de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627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ülle an Information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usgerichtet auf Menschen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s Endnutz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rfassen der Bedeutu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r Webseit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nabhängig von konkrete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präsentatio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ilden von Zusammenhäng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26" name="Picture 5" descr=""/>
          <p:cNvPicPr/>
          <p:nvPr/>
        </p:nvPicPr>
        <p:blipFill>
          <a:blip r:embed="rId3"/>
          <a:srcRect l="0" t="10369" r="1795" b="8183"/>
          <a:stretch/>
        </p:blipFill>
        <p:spPr>
          <a:xfrm>
            <a:off x="9321840" y="3086280"/>
            <a:ext cx="5702400" cy="4449600"/>
          </a:xfrm>
          <a:prstGeom prst="rect">
            <a:avLst/>
          </a:prstGeom>
          <a:ln w="0">
            <a:noFill/>
          </a:ln>
          <a:effectLst>
            <a:outerShdw dist="114189" dir="6663806" blurRad="0" rotWithShape="0">
              <a:srgbClr val="000000">
                <a:alpha val="95000"/>
              </a:srgbClr>
            </a:outerShdw>
          </a:effectLst>
        </p:spPr>
      </p:pic>
      <p:pic>
        <p:nvPicPr>
          <p:cNvPr id="427" name="Picture 6" descr=""/>
          <p:cNvPicPr/>
          <p:nvPr/>
        </p:nvPicPr>
        <p:blipFill>
          <a:blip r:embed="rId4"/>
          <a:srcRect l="548" t="12121" r="2763" b="7436"/>
          <a:stretch/>
        </p:blipFill>
        <p:spPr>
          <a:xfrm>
            <a:off x="9728280" y="6858000"/>
            <a:ext cx="4508280" cy="3708360"/>
          </a:xfrm>
          <a:prstGeom prst="rect">
            <a:avLst/>
          </a:prstGeom>
          <a:ln w="0">
            <a:noFill/>
          </a:ln>
          <a:effectLst>
            <a:outerShdw dist="114189" dir="6663806" blurRad="0" rotWithShape="0">
              <a:srgbClr val="000000">
                <a:alpha val="95000"/>
              </a:srgbClr>
            </a:outerShdw>
          </a:effectLst>
        </p:spPr>
      </p:pic>
      <p:sp>
        <p:nvSpPr>
          <p:cNvPr id="428" name="Text Box 7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F15F-0D97-488D-9282-6C612749A5F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FA46-1BFE-41F7-9A55-0FC8972D6DE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bleme de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Helvetica Neue"/>
              </a:rPr>
              <a:t>Lokalisierung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von Information problematisch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eutige Suchmaschinen gut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er stichwortbasier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ünschenswert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inhaltliche,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semantische Such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32" name="Picture 3" descr=""/>
          <p:cNvPicPr/>
          <p:nvPr/>
        </p:nvPicPr>
        <p:blipFill>
          <a:blip r:embed="rId1"/>
          <a:srcRect l="1426" t="15071" r="37718" b="35346"/>
          <a:stretch/>
        </p:blipFill>
        <p:spPr>
          <a:xfrm>
            <a:off x="8437680" y="5450040"/>
            <a:ext cx="4565520" cy="4305240"/>
          </a:xfrm>
          <a:prstGeom prst="rect">
            <a:avLst/>
          </a:prstGeom>
          <a:ln w="0">
            <a:noFill/>
          </a:ln>
          <a:effectLst>
            <a:outerShdw dist="114205" dir="11103818" blurRad="0" rotWithShape="0">
              <a:srgbClr val="000000">
                <a:alpha val="95000"/>
              </a:srgbClr>
            </a:outerShdw>
          </a:effectLst>
        </p:spPr>
      </p:pic>
      <p:sp>
        <p:nvSpPr>
          <p:cNvPr id="433" name="Text Box 4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DE86-E25A-452D-82C3-1A15327FB31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6917-8ABC-4A74-B437-8587A11F3A3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orstellung der Doze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rganisatorisches zur Vorlesung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as ist das "Semantic Web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Semantic Karlsruhe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2212-D440-4CD0-A571-BB210BFE698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bleme de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600" y="201888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Helvetica Neue"/>
              </a:rPr>
              <a:t>Heterogenität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der vorhandenen Information auf verschiedensten Ebenen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Zeichenkodierung (z.B. ASCII vs. Unicode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verwendete natürliche Sprache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Anordnung von Information auf Webseite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Helvetica Neue"/>
              </a:rPr>
              <a:t>Informationsintegration</a:t>
            </a:r>
            <a:br>
              <a:rPr sz="3400"/>
            </a:br>
            <a:r>
              <a:rPr b="0" i="1" lang="en-US" sz="34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37" name="Picture 3" descr=""/>
          <p:cNvPicPr/>
          <p:nvPr/>
        </p:nvPicPr>
        <p:blipFill>
          <a:blip r:embed="rId1"/>
          <a:srcRect l="11629" t="30136" r="8486" b="10715"/>
          <a:stretch/>
        </p:blipFill>
        <p:spPr>
          <a:xfrm>
            <a:off x="1092240" y="8039160"/>
            <a:ext cx="7251840" cy="2797200"/>
          </a:xfrm>
          <a:prstGeom prst="rect">
            <a:avLst/>
          </a:prstGeom>
          <a:ln w="0">
            <a:noFill/>
          </a:ln>
          <a:effectLst>
            <a:outerShdw dist="114205" dir="11103818" blurRad="0" rotWithShape="0">
              <a:srgbClr val="000000">
                <a:alpha val="95000"/>
              </a:srgbClr>
            </a:outerShdw>
          </a:effectLst>
        </p:spPr>
      </p:pic>
      <p:pic>
        <p:nvPicPr>
          <p:cNvPr id="438" name="Picture 4" descr=""/>
          <p:cNvPicPr/>
          <p:nvPr/>
        </p:nvPicPr>
        <p:blipFill>
          <a:blip r:embed="rId2"/>
          <a:srcRect l="206" t="23809" r="6903" b="13833"/>
          <a:stretch/>
        </p:blipFill>
        <p:spPr>
          <a:xfrm>
            <a:off x="8369280" y="6870600"/>
            <a:ext cx="5638680" cy="3492720"/>
          </a:xfrm>
          <a:prstGeom prst="rect">
            <a:avLst/>
          </a:prstGeom>
          <a:ln w="0">
            <a:noFill/>
          </a:ln>
          <a:effectLst>
            <a:outerShdw dist="114205" dir="11103818" blurRad="0" rotWithShape="0">
              <a:srgbClr val="000000">
                <a:alpha val="95000"/>
              </a:srgbClr>
            </a:outerShdw>
          </a:effectLst>
        </p:spPr>
      </p:pic>
      <p:sp>
        <p:nvSpPr>
          <p:cNvPr id="439" name="Text Box 5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14B6-AA5B-424C-A96C-82E5E8AD4EC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3BDA-D5D6-4CD1-81AE-68135D0FA9B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bleme de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3460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Helvetica Neue"/>
              </a:rPr>
              <a:t>implizites Wisse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, d.h. Informationen, sind nicht explizit spezifiziert, folgen aber aus der Kombination gegebener Da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rmallogische Methoden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rforderlich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automatisches Schlussfolgern</a:t>
            </a:r>
            <a:br>
              <a:rPr sz="4200"/>
            </a:b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43" name="Picture 3" descr=""/>
          <p:cNvPicPr/>
          <p:nvPr/>
        </p:nvPicPr>
        <p:blipFill>
          <a:blip r:embed="rId1"/>
          <a:stretch/>
        </p:blipFill>
        <p:spPr>
          <a:xfrm>
            <a:off x="9883800" y="5710320"/>
            <a:ext cx="3060720" cy="3962160"/>
          </a:xfrm>
          <a:prstGeom prst="rect">
            <a:avLst/>
          </a:prstGeom>
          <a:ln w="0">
            <a:noFill/>
          </a:ln>
          <a:effectLst>
            <a:outerShdw dist="114205" dir="11103818" blurRad="0" rotWithShape="0">
              <a:srgbClr val="777777">
                <a:alpha val="95000"/>
              </a:srgbClr>
            </a:outerShdw>
          </a:effectLst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C743-4CF0-487C-80CC-8DF0F3AF655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bleme de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3460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7372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ösungsansätz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37280" indent="-502560">
              <a:spcBef>
                <a:spcPts val="2401"/>
              </a:spcBef>
              <a:buClr>
                <a:srgbClr val="000000"/>
              </a:buClr>
              <a:buSzPct val="99000"/>
              <a:buFont typeface="Helvetica Neue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d hoc: Verwendung von KI-Methoden zur Auswertung bestehender unstrukturierter Informationen im Web 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37280" indent="-502560">
              <a:spcBef>
                <a:spcPts val="2401"/>
              </a:spcBef>
              <a:buClr>
                <a:srgbClr val="000000"/>
              </a:buClr>
              <a:buSzPct val="99000"/>
              <a:buFont typeface="Helvetica Neue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 priori: Strukturierung der Web-Informationen zur Erleichterung der automatisierten Auswertung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➜ </a:t>
            </a:r>
            <a:r>
              <a:rPr b="1" lang="en-US" sz="4200" spc="-1" strike="noStrike">
                <a:solidFill>
                  <a:srgbClr val="000000"/>
                </a:solidFill>
                <a:latin typeface="Helvetica Neue"/>
              </a:rPr>
              <a:t>Semantic Web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6D7F-2D86-4E94-890E-FEB98759AD6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arum Semantic Web?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270080" y="2552400"/>
            <a:ext cx="11074320" cy="708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8294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0160e"/>
                </a:solidFill>
                <a:latin typeface="Helvetica Neue"/>
              </a:rPr>
              <a:t>Exkurs: Syntax vs. Semantik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9440" indent="-565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Helvetica Neue"/>
              </a:rPr>
              <a:t>Syntax</a:t>
            </a: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(von grch.συνταξι      ς  – </a:t>
            </a:r>
            <a:r>
              <a:rPr b="0" i="1" lang="en-US" sz="2700" spc="-1" strike="noStrike">
                <a:solidFill>
                  <a:srgbClr val="000000"/>
                </a:solidFill>
                <a:latin typeface="Helvetica Neue"/>
              </a:rPr>
              <a:t>Zusammenstellung, Satzbau</a:t>
            </a: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) steht für die (normative) Struktur von Daten, d.h. sie charakterisiert, was "wohlgeformte" Daten sind. </a:t>
            </a:r>
            <a:endParaRPr b="0" lang="en-US" sz="2700" spc="-1" strike="noStrike">
              <a:solidFill>
                <a:srgbClr val="000000"/>
              </a:solidFill>
              <a:latin typeface="Helvetica Neue"/>
            </a:endParaRPr>
          </a:p>
          <a:p>
            <a:pPr marL="829440" indent="-565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Helvetica Neue"/>
              </a:rPr>
              <a:t>Semantik</a:t>
            </a: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(grch. σημαντικο     ς  – </a:t>
            </a:r>
            <a:r>
              <a:rPr b="0" i="1" lang="en-US" sz="2700" spc="-1" strike="noStrike">
                <a:solidFill>
                  <a:srgbClr val="000000"/>
                </a:solidFill>
                <a:latin typeface="Helvetica Neue"/>
              </a:rPr>
              <a:t>zum Zeichen gehörend</a:t>
            </a: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) steht für die Bedeutung von Daten, d.h. sie charakterisiert beispielsweise, welche inhaltliche Schlussfolgerungen sich ziehen lassen.</a:t>
            </a:r>
            <a:br>
              <a:rPr sz="2700"/>
            </a:br>
            <a:br>
              <a:rPr sz="2700"/>
            </a:br>
            <a:br>
              <a:rPr sz="2700"/>
            </a:br>
            <a:r>
              <a:rPr b="0" i="1" lang="en-US" sz="2700" spc="-1" strike="noStrike">
                <a:solidFill>
                  <a:srgbClr val="000000"/>
                </a:solidFill>
                <a:latin typeface="Helvetica Neue"/>
              </a:rPr>
              <a:t>        </a:t>
            </a:r>
            <a:r>
              <a:rPr b="0" i="1" lang="en-US" sz="3100" spc="-1" strike="noStrike">
                <a:solidFill>
                  <a:srgbClr val="000000"/>
                </a:solidFill>
                <a:latin typeface="Helvetica Neue"/>
              </a:rPr>
              <a:t>4+)=(                        3+4=12                    3+4=7</a:t>
            </a:r>
            <a:br>
              <a:rPr sz="3100"/>
            </a:b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syntaktisch falsch         syntaktisch richtig        syntaktisch richtig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            --                       semantisch falsch        semantisch richtig </a:t>
            </a:r>
            <a:endParaRPr b="0" lang="en-US" sz="2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752E-5F52-45D1-A622-CF8BD606360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emantic Web – Zuta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461600" y="2715840"/>
            <a:ext cx="10464840" cy="648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wei essentielle Voraussetzungen zur Realisierung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99000"/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ffene Standards zur Beschreibung von Informationen / von Wiss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r definie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lexib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erweiterbar 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99000"/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ethoden zur Gewinnung von weiteren Informationen aus derlei Beschreibung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6396-1AD0-48B4-AE28-DF2E4581459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537920" y="240840"/>
            <a:ext cx="11085480" cy="15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200" spc="-1" strike="noStrike">
                <a:solidFill>
                  <a:srgbClr val="000000"/>
                </a:solidFill>
                <a:latin typeface="Bodoni SvtyTwo SC ITC TT-Book"/>
              </a:rPr>
              <a:t>Grundidee des Semantic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55" name="Picture 3" descr=""/>
          <p:cNvPicPr/>
          <p:nvPr/>
        </p:nvPicPr>
        <p:blipFill>
          <a:blip r:embed="rId1"/>
          <a:stretch/>
        </p:blipFill>
        <p:spPr>
          <a:xfrm>
            <a:off x="4351320" y="2744640"/>
            <a:ext cx="4097520" cy="395928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4"/>
          <p:cNvSpPr/>
          <p:nvPr/>
        </p:nvSpPr>
        <p:spPr>
          <a:xfrm>
            <a:off x="5258880" y="6823080"/>
            <a:ext cx="223128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Ontologie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repräsentiert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Schemawissen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AutoShape 5"/>
          <p:cNvSpPr/>
          <p:nvPr/>
        </p:nvSpPr>
        <p:spPr>
          <a:xfrm>
            <a:off x="154080" y="5389560"/>
            <a:ext cx="3889440" cy="348156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DL Rules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Krötzsch, Rudolph, Hitzle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ECAI 2008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AutoShape 6"/>
          <p:cNvSpPr/>
          <p:nvPr/>
        </p:nvSpPr>
        <p:spPr>
          <a:xfrm>
            <a:off x="2714760" y="4159080"/>
            <a:ext cx="103032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AutoShape 7"/>
          <p:cNvSpPr/>
          <p:nvPr/>
        </p:nvSpPr>
        <p:spPr>
          <a:xfrm>
            <a:off x="9470880" y="5183280"/>
            <a:ext cx="1032120" cy="82548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AutoShape 8"/>
          <p:cNvSpPr/>
          <p:nvPr/>
        </p:nvSpPr>
        <p:spPr>
          <a:xfrm>
            <a:off x="11111040" y="4262400"/>
            <a:ext cx="103176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AutoShape 9"/>
          <p:cNvSpPr/>
          <p:nvPr/>
        </p:nvSpPr>
        <p:spPr>
          <a:xfrm>
            <a:off x="8961480" y="3033720"/>
            <a:ext cx="1031760" cy="82548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AutoShape 10"/>
          <p:cNvSpPr/>
          <p:nvPr/>
        </p:nvSpPr>
        <p:spPr>
          <a:xfrm>
            <a:off x="4351320" y="1803240"/>
            <a:ext cx="103176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AutoShape 11"/>
          <p:cNvSpPr/>
          <p:nvPr/>
        </p:nvSpPr>
        <p:spPr>
          <a:xfrm>
            <a:off x="1587600" y="2930400"/>
            <a:ext cx="103176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Text Box 12"/>
          <p:cNvSpPr/>
          <p:nvPr/>
        </p:nvSpPr>
        <p:spPr>
          <a:xfrm>
            <a:off x="10385280" y="6004080"/>
            <a:ext cx="219456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99"/>
                </a:solidFill>
                <a:latin typeface="Arial"/>
              </a:rPr>
              <a:t>Daten z.B. auf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99"/>
                </a:solidFill>
                <a:latin typeface="Arial"/>
              </a:rPr>
              <a:t>Webseiten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Text Box 13"/>
          <p:cNvSpPr/>
          <p:nvPr/>
        </p:nvSpPr>
        <p:spPr>
          <a:xfrm>
            <a:off x="5240160" y="7950240"/>
            <a:ext cx="5663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z.B. </a:t>
            </a:r>
            <a:r>
              <a:rPr b="0" i="1" lang="de-DE" sz="2300" spc="-1" strike="noStrike">
                <a:solidFill>
                  <a:srgbClr val="000000"/>
                </a:solidFill>
                <a:latin typeface="Arial"/>
              </a:rPr>
              <a:t>jede Veröffentlichung hat einen Auto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CE6E-301C-4E8B-8CF2-FB80F8EEA31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38280" y="240840"/>
            <a:ext cx="11012400" cy="15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200" spc="-1" strike="noStrike">
                <a:solidFill>
                  <a:srgbClr val="000000"/>
                </a:solidFill>
                <a:latin typeface="Bodoni SvtyTwo SC ITC TT-Book"/>
              </a:rPr>
              <a:t>Grundidee des Semantic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68" name="Picture 3" descr=""/>
          <p:cNvPicPr/>
          <p:nvPr/>
        </p:nvPicPr>
        <p:blipFill>
          <a:blip r:embed="rId1"/>
          <a:stretch/>
        </p:blipFill>
        <p:spPr>
          <a:xfrm>
            <a:off x="5581800" y="2214720"/>
            <a:ext cx="5940360" cy="5736960"/>
          </a:xfrm>
          <a:prstGeom prst="rect">
            <a:avLst/>
          </a:prstGeom>
          <a:ln w="0">
            <a:noFill/>
          </a:ln>
        </p:spPr>
      </p:pic>
      <p:sp>
        <p:nvSpPr>
          <p:cNvPr id="469" name="AutoShape 4"/>
          <p:cNvSpPr/>
          <p:nvPr/>
        </p:nvSpPr>
        <p:spPr>
          <a:xfrm>
            <a:off x="768240" y="4363920"/>
            <a:ext cx="3891240" cy="348156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DL Rules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Krötzsch, Rudolph, Hitzle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ECAI 2008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Text Box 5"/>
          <p:cNvSpPr/>
          <p:nvPr/>
        </p:nvSpPr>
        <p:spPr>
          <a:xfrm>
            <a:off x="6060240" y="8562960"/>
            <a:ext cx="5663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z.B. </a:t>
            </a:r>
            <a:r>
              <a:rPr b="0" i="1" lang="de-DE" sz="2300" spc="-1" strike="noStrike">
                <a:solidFill>
                  <a:srgbClr val="000000"/>
                </a:solidFill>
                <a:latin typeface="Arial"/>
              </a:rPr>
              <a:t>jede Veröffentlichung hat einen Auto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Text Box 6"/>
          <p:cNvSpPr/>
          <p:nvPr/>
        </p:nvSpPr>
        <p:spPr>
          <a:xfrm>
            <a:off x="8435880" y="3851280"/>
            <a:ext cx="2583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Veröffentlichung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Text Box 7"/>
          <p:cNvSpPr/>
          <p:nvPr/>
        </p:nvSpPr>
        <p:spPr>
          <a:xfrm>
            <a:off x="7315920" y="7129440"/>
            <a:ext cx="131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Tagung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Text Box 8"/>
          <p:cNvSpPr/>
          <p:nvPr/>
        </p:nvSpPr>
        <p:spPr>
          <a:xfrm>
            <a:off x="6399000" y="3236760"/>
            <a:ext cx="861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Tit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Text Box 9"/>
          <p:cNvSpPr/>
          <p:nvPr/>
        </p:nvSpPr>
        <p:spPr>
          <a:xfrm>
            <a:off x="6293160" y="5491080"/>
            <a:ext cx="10407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Auto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Line 10"/>
          <p:cNvSpPr/>
          <p:nvPr/>
        </p:nvSpPr>
        <p:spPr>
          <a:xfrm flipV="1">
            <a:off x="4761000" y="3749400"/>
            <a:ext cx="3584520" cy="1127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Line 11"/>
          <p:cNvSpPr/>
          <p:nvPr/>
        </p:nvSpPr>
        <p:spPr>
          <a:xfrm flipV="1">
            <a:off x="1380960" y="3544560"/>
            <a:ext cx="5940720" cy="2151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Line 12"/>
          <p:cNvSpPr/>
          <p:nvPr/>
        </p:nvSpPr>
        <p:spPr>
          <a:xfrm flipV="1">
            <a:off x="1995480" y="5081760"/>
            <a:ext cx="4608360" cy="1126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Line 13"/>
          <p:cNvSpPr/>
          <p:nvPr/>
        </p:nvSpPr>
        <p:spPr>
          <a:xfrm>
            <a:off x="2406600" y="6618240"/>
            <a:ext cx="5324400" cy="204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Line 14"/>
          <p:cNvSpPr/>
          <p:nvPr/>
        </p:nvSpPr>
        <p:spPr>
          <a:xfrm flipV="1">
            <a:off x="2816280" y="5183280"/>
            <a:ext cx="3890880" cy="102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Line 15"/>
          <p:cNvSpPr/>
          <p:nvPr/>
        </p:nvSpPr>
        <p:spPr>
          <a:xfrm flipV="1">
            <a:off x="3840120" y="5284800"/>
            <a:ext cx="2968560" cy="923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3A72-835E-4F24-A3DE-1D5231B612C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38280" y="240840"/>
            <a:ext cx="11012400" cy="15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200" spc="-1" strike="noStrike">
                <a:solidFill>
                  <a:srgbClr val="000000"/>
                </a:solidFill>
                <a:latin typeface="Bodoni SvtyTwo SC ITC TT-Book"/>
              </a:rPr>
              <a:t>Grundidee des Semantic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83" name="Picture 3" descr=""/>
          <p:cNvPicPr/>
          <p:nvPr/>
        </p:nvPicPr>
        <p:blipFill>
          <a:blip r:embed="rId1"/>
          <a:stretch/>
        </p:blipFill>
        <p:spPr>
          <a:xfrm>
            <a:off x="4351320" y="2744640"/>
            <a:ext cx="4097520" cy="395928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4"/>
          <p:cNvSpPr/>
          <p:nvPr/>
        </p:nvSpPr>
        <p:spPr>
          <a:xfrm>
            <a:off x="5258880" y="6823080"/>
            <a:ext cx="223128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Ontologie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repräsentiert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Schemawissen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AutoShape 5"/>
          <p:cNvSpPr/>
          <p:nvPr/>
        </p:nvSpPr>
        <p:spPr>
          <a:xfrm>
            <a:off x="154080" y="5389560"/>
            <a:ext cx="3889440" cy="348156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DL Rules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Krötzsch, Rudolph, Hitzle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ECAI 2008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AutoShape 6"/>
          <p:cNvSpPr/>
          <p:nvPr/>
        </p:nvSpPr>
        <p:spPr>
          <a:xfrm>
            <a:off x="2714760" y="4159080"/>
            <a:ext cx="103032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AutoShape 7"/>
          <p:cNvSpPr/>
          <p:nvPr/>
        </p:nvSpPr>
        <p:spPr>
          <a:xfrm>
            <a:off x="9470880" y="5183280"/>
            <a:ext cx="1032120" cy="82548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AutoShape 8"/>
          <p:cNvSpPr/>
          <p:nvPr/>
        </p:nvSpPr>
        <p:spPr>
          <a:xfrm>
            <a:off x="11111040" y="4262400"/>
            <a:ext cx="103176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AutoShape 9"/>
          <p:cNvSpPr/>
          <p:nvPr/>
        </p:nvSpPr>
        <p:spPr>
          <a:xfrm>
            <a:off x="8961480" y="3033720"/>
            <a:ext cx="1031760" cy="82548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AutoShape 10"/>
          <p:cNvSpPr/>
          <p:nvPr/>
        </p:nvSpPr>
        <p:spPr>
          <a:xfrm>
            <a:off x="4351320" y="1803240"/>
            <a:ext cx="103176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AutoShape 11"/>
          <p:cNvSpPr/>
          <p:nvPr/>
        </p:nvSpPr>
        <p:spPr>
          <a:xfrm>
            <a:off x="1587600" y="2930400"/>
            <a:ext cx="103176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Text Box 12"/>
          <p:cNvSpPr/>
          <p:nvPr/>
        </p:nvSpPr>
        <p:spPr>
          <a:xfrm>
            <a:off x="10385280" y="6004080"/>
            <a:ext cx="219456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99"/>
                </a:solidFill>
                <a:latin typeface="Arial"/>
              </a:rPr>
              <a:t>Daten z.B. auf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99"/>
                </a:solidFill>
                <a:latin typeface="Arial"/>
              </a:rPr>
              <a:t>Webseiten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Text Box 13"/>
          <p:cNvSpPr/>
          <p:nvPr/>
        </p:nvSpPr>
        <p:spPr>
          <a:xfrm>
            <a:off x="5240160" y="7950240"/>
            <a:ext cx="5663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z.B. </a:t>
            </a:r>
            <a:r>
              <a:rPr b="0" i="1" lang="de-DE" sz="2300" spc="-1" strike="noStrike">
                <a:solidFill>
                  <a:srgbClr val="000000"/>
                </a:solidFill>
                <a:latin typeface="Arial"/>
              </a:rPr>
              <a:t>jede Veröffentlichung hat einen Auto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Line 14"/>
          <p:cNvSpPr/>
          <p:nvPr/>
        </p:nvSpPr>
        <p:spPr>
          <a:xfrm>
            <a:off x="2816280" y="3443400"/>
            <a:ext cx="1535040" cy="407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Line 15"/>
          <p:cNvSpPr/>
          <p:nvPr/>
        </p:nvSpPr>
        <p:spPr>
          <a:xfrm>
            <a:off x="5581800" y="2417760"/>
            <a:ext cx="203040" cy="307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Line 16"/>
          <p:cNvSpPr/>
          <p:nvPr/>
        </p:nvSpPr>
        <p:spPr>
          <a:xfrm>
            <a:off x="3840120" y="4570560"/>
            <a:ext cx="409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Line 17"/>
          <p:cNvSpPr/>
          <p:nvPr/>
        </p:nvSpPr>
        <p:spPr>
          <a:xfrm flipV="1">
            <a:off x="4148280" y="6003720"/>
            <a:ext cx="511200" cy="407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Line 18"/>
          <p:cNvSpPr/>
          <p:nvPr/>
        </p:nvSpPr>
        <p:spPr>
          <a:xfrm flipH="1" flipV="1">
            <a:off x="8550360" y="5284440"/>
            <a:ext cx="614160" cy="206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Line 19"/>
          <p:cNvSpPr/>
          <p:nvPr/>
        </p:nvSpPr>
        <p:spPr>
          <a:xfrm flipH="1">
            <a:off x="8141760" y="3240000"/>
            <a:ext cx="613080" cy="203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Line 20"/>
          <p:cNvSpPr/>
          <p:nvPr/>
        </p:nvSpPr>
        <p:spPr>
          <a:xfrm flipH="1" flipV="1">
            <a:off x="8652960" y="4468320"/>
            <a:ext cx="2251080" cy="101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Text Box 21"/>
          <p:cNvSpPr/>
          <p:nvPr/>
        </p:nvSpPr>
        <p:spPr>
          <a:xfrm>
            <a:off x="-450720" y="8562960"/>
            <a:ext cx="1363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Gill Sans"/>
              </a:rPr>
              <a:t>Deduktionsalgorithmen erlauben Gewinnung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Gill Sans"/>
              </a:rPr>
              <a:t>neuen (impliziten) Wissens aus den integrierten Informatione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Foliennummernplatzhalter 4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E990-F097-4B03-ACBD-A9F755EA67F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538280" y="240840"/>
            <a:ext cx="11157120" cy="15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000000"/>
                </a:solidFill>
                <a:latin typeface="Bodoni SvtyTwo SC ITC TT-Book"/>
              </a:rPr>
              <a:t>Ontologien als zentrale Technologie</a:t>
            </a:r>
            <a:endParaRPr b="0" lang="en-US" sz="5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74880" y="2384280"/>
            <a:ext cx="11569680" cy="628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Helvetica Neue"/>
              </a:rPr>
              <a:t>Stellen einen Bezugsrahmen für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Helvetica Neue"/>
              </a:rPr>
              <a:t>die Disambiguierung und</a:t>
            </a:r>
            <a:endParaRPr b="0" lang="en-US" sz="25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Helvetica Neue"/>
              </a:rPr>
              <a:t>die globale Vernetzung</a:t>
            </a:r>
            <a:endParaRPr b="0" lang="en-US" sz="25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de-DE" sz="3000" spc="-1" strike="noStrike">
                <a:solidFill>
                  <a:srgbClr val="000000"/>
                </a:solidFill>
                <a:latin typeface="Helvetica Neue"/>
              </a:rPr>
              <a:t>von Bedeutung zur Verfügung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Helvetica Neue"/>
              </a:rPr>
              <a:t>Vermitteln Hintergrundwissen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Helvetica Neue"/>
              </a:rPr>
              <a:t>Erlauben den Umgang mit implizitem Wissen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Helvetica Neue"/>
              </a:rPr>
              <a:t>Haben eine explizite formale Semantik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Helvetica Neue"/>
              </a:rPr>
              <a:t>Können als gemeinsame Ressource genutzt werden, z.B. über das WWW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Helvetica Neue"/>
              </a:rPr>
              <a:t>Erlauben die Integration verteilten Wissens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05" name="Picture 4" descr=""/>
          <p:cNvPicPr/>
          <p:nvPr/>
        </p:nvPicPr>
        <p:blipFill>
          <a:blip r:embed="rId1"/>
          <a:stretch/>
        </p:blipFill>
        <p:spPr>
          <a:xfrm>
            <a:off x="8653320" y="1803240"/>
            <a:ext cx="3376800" cy="32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A496-892E-4F04-AD0A-ACD37EBF6EB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538280" y="240840"/>
            <a:ext cx="10261440" cy="15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600" spc="-1" strike="noStrike">
                <a:solidFill>
                  <a:srgbClr val="000000"/>
                </a:solidFill>
                <a:latin typeface="Bodoni SvtyTwo SC ITC TT-Book"/>
              </a:rPr>
              <a:t>Ontologiesprachen / Standards</a:t>
            </a:r>
            <a:endParaRPr b="0" lang="en-US" sz="56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71160" y="2284200"/>
            <a:ext cx="10464840" cy="6840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Zentral für die Realisierung Semantischer Technologien ist die Entwicklung geeigneter </a:t>
            </a:r>
            <a:r>
              <a:rPr b="1" lang="de-DE" sz="4200" spc="-1" strike="noStrike">
                <a:solidFill>
                  <a:srgbClr val="000000"/>
                </a:solidFill>
                <a:latin typeface="Helvetica Neue"/>
              </a:rPr>
              <a:t>Repräsentationssprachen</a:t>
            </a: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 für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Bedeutung (Semantik) mittels Logik und  Deduktionsalgorithmen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Was eignet sich als  Repräsentationssprache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F616-BA13-4DCF-9022-ABB624D6860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69720" y="2755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Vorstellung der Doze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rganisatorisches zur Vorlesung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as ist das "Semantic Web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Semantic Karlsruhe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3849-FC17-443E-A805-BCFC8A4CB43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emantic Web - Standard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7039080" y="3195720"/>
            <a:ext cx="4622760" cy="3888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7037280" y="3211560"/>
            <a:ext cx="4626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</a:rPr>
              <a:t>Standardization Semantic Web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7037280" y="3584520"/>
            <a:ext cx="1333440" cy="622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7037280" y="3595680"/>
            <a:ext cx="13334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344520" indent="-344520"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1994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7037280" y="4206960"/>
            <a:ext cx="1333440" cy="8269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7037280" y="4321080"/>
            <a:ext cx="13334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344520" indent="-344520"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1998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8359920" y="3584520"/>
            <a:ext cx="3300120" cy="622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8359920" y="3600360"/>
            <a:ext cx="32922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182520" indent="-16812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First public presentation of the Semantic Web idea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Rectangle 10"/>
          <p:cNvSpPr/>
          <p:nvPr/>
        </p:nvSpPr>
        <p:spPr>
          <a:xfrm>
            <a:off x="8359920" y="4206960"/>
            <a:ext cx="3300120" cy="826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Rectangle 11"/>
          <p:cNvSpPr/>
          <p:nvPr/>
        </p:nvSpPr>
        <p:spPr>
          <a:xfrm>
            <a:off x="8359920" y="4222800"/>
            <a:ext cx="32922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182520" indent="-16812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Start of standardization of data model (RDF) and a first ontology languages (RDFS) at W3C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Rectangle 12"/>
          <p:cNvSpPr/>
          <p:nvPr/>
        </p:nvSpPr>
        <p:spPr>
          <a:xfrm>
            <a:off x="7037280" y="5033880"/>
            <a:ext cx="1333440" cy="828720"/>
          </a:xfrm>
          <a:prstGeom prst="rect">
            <a:avLst/>
          </a:prstGeom>
          <a:solidFill>
            <a:srgbClr val="ff7f00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Rectangle 13"/>
          <p:cNvSpPr/>
          <p:nvPr/>
        </p:nvSpPr>
        <p:spPr>
          <a:xfrm>
            <a:off x="7037280" y="5148360"/>
            <a:ext cx="13334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344520" indent="-344520"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Rectangle 14"/>
          <p:cNvSpPr/>
          <p:nvPr/>
        </p:nvSpPr>
        <p:spPr>
          <a:xfrm>
            <a:off x="8359920" y="5033880"/>
            <a:ext cx="33001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Rectangle 15"/>
          <p:cNvSpPr/>
          <p:nvPr/>
        </p:nvSpPr>
        <p:spPr>
          <a:xfrm>
            <a:off x="8359920" y="5051520"/>
            <a:ext cx="3292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182520" indent="-16812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Start of large research projects about ontologies in the US and Europe (DAML &amp; Ontoknowledge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Rectangle 16"/>
          <p:cNvSpPr/>
          <p:nvPr/>
        </p:nvSpPr>
        <p:spPr>
          <a:xfrm>
            <a:off x="7037280" y="5862600"/>
            <a:ext cx="1333440" cy="827280"/>
          </a:xfrm>
          <a:prstGeom prst="rect">
            <a:avLst/>
          </a:prstGeom>
          <a:solidFill>
            <a:srgbClr val="ff7f00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Rectangle 17"/>
          <p:cNvSpPr/>
          <p:nvPr/>
        </p:nvSpPr>
        <p:spPr>
          <a:xfrm>
            <a:off x="7037280" y="5975280"/>
            <a:ext cx="13334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344520" indent="-344520"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Rectangle 18"/>
          <p:cNvSpPr/>
          <p:nvPr/>
        </p:nvSpPr>
        <p:spPr>
          <a:xfrm>
            <a:off x="8359920" y="5862600"/>
            <a:ext cx="3300120" cy="827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Rectangle 19"/>
          <p:cNvSpPr/>
          <p:nvPr/>
        </p:nvSpPr>
        <p:spPr>
          <a:xfrm>
            <a:off x="8359920" y="5878440"/>
            <a:ext cx="32922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182520" indent="-16812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Start of standardization of a new ontology language (OWL) based on research result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Rectangle 20"/>
          <p:cNvSpPr/>
          <p:nvPr/>
        </p:nvSpPr>
        <p:spPr>
          <a:xfrm>
            <a:off x="7037280" y="6689880"/>
            <a:ext cx="1333440" cy="830160"/>
          </a:xfrm>
          <a:prstGeom prst="rect">
            <a:avLst/>
          </a:prstGeom>
          <a:solidFill>
            <a:srgbClr val="ff7f00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Rectangle 21"/>
          <p:cNvSpPr/>
          <p:nvPr/>
        </p:nvSpPr>
        <p:spPr>
          <a:xfrm>
            <a:off x="7037280" y="6804000"/>
            <a:ext cx="13334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344520" indent="-344520"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2004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Rectangle 22"/>
          <p:cNvSpPr/>
          <p:nvPr/>
        </p:nvSpPr>
        <p:spPr>
          <a:xfrm>
            <a:off x="8359920" y="6689880"/>
            <a:ext cx="3300120" cy="830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Rectangle 23"/>
          <p:cNvSpPr/>
          <p:nvPr/>
        </p:nvSpPr>
        <p:spPr>
          <a:xfrm>
            <a:off x="8359920" y="6705720"/>
            <a:ext cx="32922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182520" indent="-16812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Finalization of the  standard for data (RDF) and ontology (OWL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Rectangle 24"/>
          <p:cNvSpPr/>
          <p:nvPr/>
        </p:nvSpPr>
        <p:spPr>
          <a:xfrm>
            <a:off x="7037280" y="7520040"/>
            <a:ext cx="1333440" cy="17478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Rectangle 25"/>
          <p:cNvSpPr/>
          <p:nvPr/>
        </p:nvSpPr>
        <p:spPr>
          <a:xfrm>
            <a:off x="7037280" y="8093160"/>
            <a:ext cx="13334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344520" indent="-344520"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Rectangle 26"/>
          <p:cNvSpPr/>
          <p:nvPr/>
        </p:nvSpPr>
        <p:spPr>
          <a:xfrm>
            <a:off x="8359920" y="7520040"/>
            <a:ext cx="3300120" cy="17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Rectangle 27"/>
          <p:cNvSpPr/>
          <p:nvPr/>
        </p:nvSpPr>
        <p:spPr>
          <a:xfrm>
            <a:off x="8359920" y="7535880"/>
            <a:ext cx="3292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169920" indent="-168480">
              <a:lnSpc>
                <a:spcPct val="100000"/>
              </a:lnSpc>
              <a:spcBef>
                <a:spcPts val="213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Standardization of a quer y langua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(SPARQL, 6. April 2006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169920" indent="-168480">
              <a:lnSpc>
                <a:spcPct val="100000"/>
              </a:lnSpc>
              <a:spcBef>
                <a:spcPts val="213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Ongoing work on rule languag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(SWRL, DL-safe rules, RIF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169920" indent="-168480">
              <a:lnSpc>
                <a:spcPct val="100000"/>
              </a:lnSpc>
              <a:spcBef>
                <a:spcPts val="213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Extension of OWL to OWL 1.1 / 2.0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169920" indent="-168480">
              <a:lnSpc>
                <a:spcPct val="100000"/>
              </a:lnSpc>
              <a:spcBef>
                <a:spcPts val="213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Ontology language of OMG based on UML (ODM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Rectangle 28"/>
          <p:cNvSpPr/>
          <p:nvPr/>
        </p:nvSpPr>
        <p:spPr>
          <a:xfrm>
            <a:off x="1339920" y="3195720"/>
            <a:ext cx="4622760" cy="3888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Rectangle 29"/>
          <p:cNvSpPr/>
          <p:nvPr/>
        </p:nvSpPr>
        <p:spPr>
          <a:xfrm>
            <a:off x="1338120" y="3211560"/>
            <a:ext cx="4626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Rectangle 30"/>
          <p:cNvSpPr/>
          <p:nvPr/>
        </p:nvSpPr>
        <p:spPr>
          <a:xfrm>
            <a:off x="1339920" y="3562200"/>
            <a:ext cx="4632120" cy="5716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AutoShape 31"/>
          <p:cNvSpPr/>
          <p:nvPr/>
        </p:nvSpPr>
        <p:spPr>
          <a:xfrm>
            <a:off x="6407280" y="3606840"/>
            <a:ext cx="266400" cy="5667480"/>
          </a:xfrm>
          <a:prstGeom prst="rightArrow">
            <a:avLst>
              <a:gd name="adj1" fmla="val 74278"/>
              <a:gd name="adj2" fmla="val 81000"/>
            </a:avLst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1" name="Picture 32" descr=""/>
          <p:cNvPicPr/>
          <p:nvPr/>
        </p:nvPicPr>
        <p:blipFill>
          <a:blip r:embed="rId1"/>
          <a:stretch/>
        </p:blipFill>
        <p:spPr>
          <a:xfrm>
            <a:off x="1525680" y="3792600"/>
            <a:ext cx="4279680" cy="443052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33"/>
          <p:cNvSpPr/>
          <p:nvPr/>
        </p:nvSpPr>
        <p:spPr>
          <a:xfrm>
            <a:off x="1636560" y="5665680"/>
            <a:ext cx="3254400" cy="290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Rectangle 34"/>
          <p:cNvSpPr/>
          <p:nvPr/>
        </p:nvSpPr>
        <p:spPr>
          <a:xfrm>
            <a:off x="2500200" y="8199360"/>
            <a:ext cx="1766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Rectangle 35"/>
          <p:cNvSpPr/>
          <p:nvPr/>
        </p:nvSpPr>
        <p:spPr>
          <a:xfrm>
            <a:off x="1636560" y="4387680"/>
            <a:ext cx="411660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Rectangle 36"/>
          <p:cNvSpPr/>
          <p:nvPr/>
        </p:nvSpPr>
        <p:spPr>
          <a:xfrm>
            <a:off x="2143080" y="443232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6" name="Picture 37" descr=""/>
          <p:cNvPicPr/>
          <p:nvPr/>
        </p:nvPicPr>
        <p:blipFill>
          <a:blip r:embed="rId2"/>
          <a:stretch/>
        </p:blipFill>
        <p:spPr>
          <a:xfrm>
            <a:off x="4964040" y="2184480"/>
            <a:ext cx="3060720" cy="55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6A25-A2A8-4F93-9485-E2E8076659F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emantic Web - Standard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1"/>
          <a:stretch/>
        </p:blipFill>
        <p:spPr>
          <a:xfrm>
            <a:off x="4964040" y="2184480"/>
            <a:ext cx="3060720" cy="55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0" name=""/>
          <p:cNvGraphicFramePr/>
          <p:nvPr/>
        </p:nvGraphicFramePr>
        <p:xfrm>
          <a:off x="6502320" y="2933640"/>
          <a:ext cx="6096240" cy="66675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– Grundlage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–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–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– Syntax und Intuitio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 / Einführung Regelsprach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im Semantic Web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icht aus der Prax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 – Syntax und Semanti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– Anwendunge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51" name="Rectangle 61"/>
          <p:cNvSpPr/>
          <p:nvPr/>
        </p:nvSpPr>
        <p:spPr>
          <a:xfrm>
            <a:off x="1339920" y="3195720"/>
            <a:ext cx="4622760" cy="3888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Rectangle 62"/>
          <p:cNvSpPr/>
          <p:nvPr/>
        </p:nvSpPr>
        <p:spPr>
          <a:xfrm>
            <a:off x="1338120" y="3211560"/>
            <a:ext cx="4626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Rectangle 63"/>
          <p:cNvSpPr/>
          <p:nvPr/>
        </p:nvSpPr>
        <p:spPr>
          <a:xfrm>
            <a:off x="1339920" y="3562200"/>
            <a:ext cx="4632120" cy="5716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4" name="Picture 64" descr=""/>
          <p:cNvPicPr/>
          <p:nvPr/>
        </p:nvPicPr>
        <p:blipFill>
          <a:blip r:embed="rId2"/>
          <a:stretch/>
        </p:blipFill>
        <p:spPr>
          <a:xfrm>
            <a:off x="1525680" y="3792600"/>
            <a:ext cx="4279680" cy="443052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65"/>
          <p:cNvSpPr/>
          <p:nvPr/>
        </p:nvSpPr>
        <p:spPr>
          <a:xfrm>
            <a:off x="1636560" y="5665680"/>
            <a:ext cx="3254400" cy="290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Rectangle 66"/>
          <p:cNvSpPr/>
          <p:nvPr/>
        </p:nvSpPr>
        <p:spPr>
          <a:xfrm>
            <a:off x="2500200" y="8199360"/>
            <a:ext cx="1766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Rectangle 67"/>
          <p:cNvSpPr/>
          <p:nvPr/>
        </p:nvSpPr>
        <p:spPr>
          <a:xfrm>
            <a:off x="1636560" y="4387680"/>
            <a:ext cx="411660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Rectangle 68"/>
          <p:cNvSpPr/>
          <p:nvPr/>
        </p:nvSpPr>
        <p:spPr>
          <a:xfrm>
            <a:off x="2143080" y="443232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7930-5B7F-4CB2-8DE5-80382DF1986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orstellung der Doze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rganisatorisches zur Vorlesung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as ist das "Semantic Web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"Semantic Karlsruhe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Foliennummernplatzhalter 1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3CBC-EFD1-4B79-AE73-D034A881205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3" name="Gruppieren 37" descr=""/>
          <p:cNvPicPr/>
          <p:nvPr/>
        </p:nvPicPr>
        <p:blipFill>
          <a:blip r:embed="rId1"/>
          <a:stretch/>
        </p:blipFill>
        <p:spPr>
          <a:xfrm>
            <a:off x="1249200" y="4754520"/>
            <a:ext cx="10893600" cy="438948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16"/>
          <p:cNvSpPr/>
          <p:nvPr/>
        </p:nvSpPr>
        <p:spPr>
          <a:xfrm>
            <a:off x="1589040" y="7016400"/>
            <a:ext cx="5283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Knowledge Managemen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Logical Foundations &amp; Reasoning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rvice Engineering &amp; Managemen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chine Learning &amp; Text Mining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Rectangle 17"/>
          <p:cNvSpPr/>
          <p:nvPr/>
        </p:nvSpPr>
        <p:spPr>
          <a:xfrm>
            <a:off x="6973920" y="7024320"/>
            <a:ext cx="47750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mantic Web Infrastructure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mantic Search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ocial Software&amp; Web 2.0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Governmen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66" name="Gruppieren 20"/>
          <p:cNvGrpSpPr/>
          <p:nvPr/>
        </p:nvGrpSpPr>
        <p:grpSpPr>
          <a:xfrm>
            <a:off x="1284120" y="3673440"/>
            <a:ext cx="10769760" cy="1828800"/>
            <a:chOff x="1284120" y="3673440"/>
            <a:chExt cx="10769760" cy="1828800"/>
          </a:xfrm>
        </p:grpSpPr>
        <p:sp>
          <p:nvSpPr>
            <p:cNvPr id="567" name="AutoShape 35"/>
            <p:cNvSpPr/>
            <p:nvPr/>
          </p:nvSpPr>
          <p:spPr>
            <a:xfrm>
              <a:off x="1284120" y="3891240"/>
              <a:ext cx="10769760" cy="16110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8" name="AutoShape 36"/>
            <p:cNvSpPr/>
            <p:nvPr/>
          </p:nvSpPr>
          <p:spPr>
            <a:xfrm>
              <a:off x="1284120" y="3673440"/>
              <a:ext cx="10769760" cy="1609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69" name="Rectangle 39"/>
          <p:cNvSpPr/>
          <p:nvPr/>
        </p:nvSpPr>
        <p:spPr>
          <a:xfrm>
            <a:off x="4908240" y="5322960"/>
            <a:ext cx="343764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102240" bIns="102240" anchor="ctr">
            <a:spAutoFit/>
          </a:bodyPr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Applied Research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echnology Transfe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Business Scenarios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Rectangle 42"/>
          <p:cNvSpPr/>
          <p:nvPr/>
        </p:nvSpPr>
        <p:spPr>
          <a:xfrm>
            <a:off x="8696160" y="5337000"/>
            <a:ext cx="3626640" cy="9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102240" bIns="102240" anchor="ctr">
            <a:spAutoFit/>
          </a:bodyPr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Applied Research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roduct Development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71" name="Object 43"/>
          <p:cNvGraphicFramePr/>
          <p:nvPr/>
        </p:nvGraphicFramePr>
        <p:xfrm>
          <a:off x="9480600" y="3165480"/>
          <a:ext cx="2587680" cy="73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2" name="Object 4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480600" y="3165480"/>
                    <a:ext cx="258768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Rectangle 45"/>
          <p:cNvSpPr/>
          <p:nvPr/>
        </p:nvSpPr>
        <p:spPr>
          <a:xfrm>
            <a:off x="1204920" y="5337000"/>
            <a:ext cx="3330720" cy="9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102240" bIns="102240" anchor="t">
            <a:spAutoFit/>
          </a:bodyPr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Basic Research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Applied Research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4" name="Grafik 35" descr="FZI-Logo.png"/>
          <p:cNvPicPr/>
          <p:nvPr/>
        </p:nvPicPr>
        <p:blipFill>
          <a:blip r:embed="rId4"/>
          <a:stretch/>
        </p:blipFill>
        <p:spPr>
          <a:xfrm>
            <a:off x="6262560" y="2482920"/>
            <a:ext cx="812880" cy="1392120"/>
          </a:xfrm>
          <a:prstGeom prst="rect">
            <a:avLst/>
          </a:prstGeom>
          <a:ln w="0">
            <a:noFill/>
          </a:ln>
        </p:spPr>
      </p:pic>
      <p:pic>
        <p:nvPicPr>
          <p:cNvPr id="575" name="Grafik 22" descr="KITLogo_CMYK.png"/>
          <p:cNvPicPr/>
          <p:nvPr/>
        </p:nvPicPr>
        <p:blipFill>
          <a:blip r:embed="rId5"/>
          <a:stretch/>
        </p:blipFill>
        <p:spPr>
          <a:xfrm>
            <a:off x="1893960" y="2716200"/>
            <a:ext cx="1987560" cy="9237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5" descr=""/>
          <p:cNvPicPr/>
          <p:nvPr/>
        </p:nvPicPr>
        <p:blipFill>
          <a:blip r:embed="rId6"/>
          <a:stretch/>
        </p:blipFill>
        <p:spPr>
          <a:xfrm>
            <a:off x="2830680" y="3652920"/>
            <a:ext cx="1549080" cy="657000"/>
          </a:xfrm>
          <a:prstGeom prst="rect">
            <a:avLst/>
          </a:prstGeom>
          <a:ln w="0">
            <a:noFill/>
          </a:ln>
        </p:spPr>
      </p:pic>
      <p:pic>
        <p:nvPicPr>
          <p:cNvPr id="577" name="Grafik 34" descr="AIFB-Logo.png"/>
          <p:cNvPicPr/>
          <p:nvPr/>
        </p:nvPicPr>
        <p:blipFill>
          <a:blip r:embed="rId7"/>
          <a:stretch/>
        </p:blipFill>
        <p:spPr>
          <a:xfrm>
            <a:off x="1389240" y="3797280"/>
            <a:ext cx="1422360" cy="417600"/>
          </a:xfrm>
          <a:prstGeom prst="rect">
            <a:avLst/>
          </a:prstGeom>
          <a:ln w="0">
            <a:noFill/>
          </a:ln>
        </p:spPr>
      </p:pic>
      <p:sp>
        <p:nvSpPr>
          <p:cNvPr id="578" name="Titel 6"/>
          <p:cNvSpPr/>
          <p:nvPr/>
        </p:nvSpPr>
        <p:spPr>
          <a:xfrm>
            <a:off x="1538280" y="241200"/>
            <a:ext cx="11085480" cy="15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200" spc="-1" strike="noStrike">
                <a:solidFill>
                  <a:srgbClr val="000000"/>
                </a:solidFill>
                <a:latin typeface="Bodoni SvtyTwo SC ITC TT-Book"/>
              </a:rPr>
              <a:t>Semantic Karlsruhe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Foliennummernplatzhalter 1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9A1C-B6B2-4763-99DA-BA30E3C0A26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537920" y="240840"/>
            <a:ext cx="11085480" cy="15382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200" spc="-1" strike="noStrike">
                <a:solidFill>
                  <a:srgbClr val="000000"/>
                </a:solidFill>
                <a:latin typeface="Bodoni SvtyTwo SC ITC TT-Book"/>
              </a:rPr>
              <a:t>Semantic Karlsruh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1" name="Oval 4"/>
          <p:cNvSpPr/>
          <p:nvPr/>
        </p:nvSpPr>
        <p:spPr>
          <a:xfrm>
            <a:off x="4172040" y="2459160"/>
            <a:ext cx="8501040" cy="6184800"/>
          </a:xfrm>
          <a:prstGeom prst="ellipse">
            <a:avLst/>
          </a:prstGeom>
          <a:noFill/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Oval 5"/>
          <p:cNvSpPr/>
          <p:nvPr/>
        </p:nvSpPr>
        <p:spPr>
          <a:xfrm>
            <a:off x="380880" y="2395440"/>
            <a:ext cx="9010800" cy="6248520"/>
          </a:xfrm>
          <a:prstGeom prst="ellipse">
            <a:avLst/>
          </a:prstGeom>
          <a:noFill/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11138040" y="2174760"/>
            <a:ext cx="15350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240" rIns="120240" tIns="60120" bIns="60120" anchor="t">
            <a:spAutoFit/>
          </a:bodyPr>
          <a:p>
            <a:pPr algn="ctr">
              <a:lnSpc>
                <a:spcPct val="100000"/>
              </a:lnSpc>
              <a:spcBef>
                <a:spcPts val="2911"/>
              </a:spcBef>
              <a:tabLst>
                <a:tab algn="l" pos="0"/>
                <a:tab algn="l" pos="1193760"/>
                <a:tab algn="l" pos="2389320"/>
                <a:tab algn="l" pos="3583080"/>
                <a:tab algn="l" pos="4776840"/>
                <a:tab algn="l" pos="5972040"/>
                <a:tab algn="l" pos="7165800"/>
                <a:tab algn="l" pos="8359920"/>
                <a:tab algn="l" pos="9555120"/>
                <a:tab algn="l" pos="10752120"/>
                <a:tab algn="l" pos="11945880"/>
                <a:tab algn="l" pos="13139640"/>
              </a:tabLst>
            </a:pPr>
            <a:r>
              <a:rPr b="0" lang="en-GB" sz="4700" spc="-1" strike="noStrike">
                <a:solidFill>
                  <a:srgbClr val="ffffff"/>
                </a:solidFill>
                <a:latin typeface="Calibri"/>
                <a:ea typeface="Arial"/>
              </a:rPr>
              <a:t>FZI</a:t>
            </a:r>
            <a:endParaRPr b="0" lang="en-US" sz="4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384120" y="2174760"/>
            <a:ext cx="19731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240" rIns="120240" tIns="60120" bIns="60120" anchor="t">
            <a:spAutoFit/>
          </a:bodyPr>
          <a:p>
            <a:pPr algn="ctr">
              <a:lnSpc>
                <a:spcPct val="100000"/>
              </a:lnSpc>
              <a:spcBef>
                <a:spcPts val="2911"/>
              </a:spcBef>
              <a:tabLst>
                <a:tab algn="l" pos="0"/>
                <a:tab algn="l" pos="1193760"/>
                <a:tab algn="l" pos="2389320"/>
                <a:tab algn="l" pos="3583080"/>
                <a:tab algn="l" pos="4776840"/>
                <a:tab algn="l" pos="5972040"/>
                <a:tab algn="l" pos="7165800"/>
                <a:tab algn="l" pos="8359920"/>
                <a:tab algn="l" pos="9555120"/>
                <a:tab algn="l" pos="10752120"/>
                <a:tab algn="l" pos="11945880"/>
                <a:tab algn="l" pos="13139640"/>
              </a:tabLst>
            </a:pPr>
            <a:r>
              <a:rPr b="0" lang="en-GB" sz="4700" spc="-1" strike="noStrike">
                <a:solidFill>
                  <a:srgbClr val="ffffff"/>
                </a:solidFill>
                <a:latin typeface="Calibri"/>
                <a:ea typeface="Arial"/>
              </a:rPr>
              <a:t>AIFB</a:t>
            </a:r>
            <a:endParaRPr b="0" lang="en-US" sz="4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Text Box 8"/>
          <p:cNvSpPr/>
          <p:nvPr/>
        </p:nvSpPr>
        <p:spPr>
          <a:xfrm>
            <a:off x="5808600" y="3154320"/>
            <a:ext cx="208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Calibri"/>
                <a:ea typeface="Arial"/>
              </a:rPr>
              <a:t>Rudi Stud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Text Box 9"/>
          <p:cNvSpPr/>
          <p:nvPr/>
        </p:nvSpPr>
        <p:spPr>
          <a:xfrm>
            <a:off x="7140600" y="8340840"/>
            <a:ext cx="2330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Valentin Zachari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Text Box 10"/>
          <p:cNvSpPr/>
          <p:nvPr/>
        </p:nvSpPr>
        <p:spPr>
          <a:xfrm>
            <a:off x="8062920" y="7624800"/>
            <a:ext cx="225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Max Völk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Text Box 11"/>
          <p:cNvSpPr/>
          <p:nvPr/>
        </p:nvSpPr>
        <p:spPr>
          <a:xfrm>
            <a:off x="9802800" y="6697800"/>
            <a:ext cx="266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Nenad Stojanovic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Text Box 13"/>
          <p:cNvSpPr/>
          <p:nvPr/>
        </p:nvSpPr>
        <p:spPr>
          <a:xfrm>
            <a:off x="7448400" y="2606760"/>
            <a:ext cx="24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Andreas Abeck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Text Box 14"/>
          <p:cNvSpPr/>
          <p:nvPr/>
        </p:nvSpPr>
        <p:spPr>
          <a:xfrm>
            <a:off x="9188280" y="6288120"/>
            <a:ext cx="2254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Ljiljana Stojanovic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Text Box 15"/>
          <p:cNvSpPr/>
          <p:nvPr/>
        </p:nvSpPr>
        <p:spPr>
          <a:xfrm>
            <a:off x="2124000" y="7318440"/>
            <a:ext cx="2084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Johanna Völk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Text Box 16"/>
          <p:cNvSpPr/>
          <p:nvPr/>
        </p:nvSpPr>
        <p:spPr>
          <a:xfrm>
            <a:off x="2017800" y="2908440"/>
            <a:ext cx="3176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tephan Bloehdor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Text Box 17"/>
          <p:cNvSpPr/>
          <p:nvPr/>
        </p:nvSpPr>
        <p:spPr>
          <a:xfrm>
            <a:off x="3871800" y="2500200"/>
            <a:ext cx="224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udhir Agarwa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Text Box 19"/>
          <p:cNvSpPr/>
          <p:nvPr/>
        </p:nvSpPr>
        <p:spPr>
          <a:xfrm>
            <a:off x="690480" y="3828960"/>
            <a:ext cx="2903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Philipp Cimian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Text Box 20"/>
          <p:cNvSpPr/>
          <p:nvPr/>
        </p:nvSpPr>
        <p:spPr>
          <a:xfrm>
            <a:off x="11014200" y="5572080"/>
            <a:ext cx="165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Mark Hefk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Text Box 21"/>
          <p:cNvSpPr/>
          <p:nvPr/>
        </p:nvSpPr>
        <p:spPr>
          <a:xfrm>
            <a:off x="9293400" y="4552920"/>
            <a:ext cx="198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tephan Grimm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Text Box 22"/>
          <p:cNvSpPr/>
          <p:nvPr/>
        </p:nvSpPr>
        <p:spPr>
          <a:xfrm>
            <a:off x="2533680" y="4137120"/>
            <a:ext cx="2571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Peter Haas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Text Box 23"/>
          <p:cNvSpPr/>
          <p:nvPr/>
        </p:nvSpPr>
        <p:spPr>
          <a:xfrm>
            <a:off x="1711440" y="5264280"/>
            <a:ext cx="266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teffen Lampart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Text Box 24"/>
          <p:cNvSpPr/>
          <p:nvPr/>
        </p:nvSpPr>
        <p:spPr>
          <a:xfrm>
            <a:off x="369720" y="4341960"/>
            <a:ext cx="2571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Uta Helling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Text Box 25"/>
          <p:cNvSpPr/>
          <p:nvPr/>
        </p:nvSpPr>
        <p:spPr>
          <a:xfrm>
            <a:off x="2225520" y="4753080"/>
            <a:ext cx="2355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Pascal Hitzl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Text Box 26"/>
          <p:cNvSpPr/>
          <p:nvPr/>
        </p:nvSpPr>
        <p:spPr>
          <a:xfrm>
            <a:off x="4172040" y="8202600"/>
            <a:ext cx="194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Denny Vrandecic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Text Box 28"/>
          <p:cNvSpPr/>
          <p:nvPr/>
        </p:nvSpPr>
        <p:spPr>
          <a:xfrm>
            <a:off x="587520" y="4854600"/>
            <a:ext cx="194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Markus Krötzsch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Text Box 30"/>
          <p:cNvSpPr/>
          <p:nvPr/>
        </p:nvSpPr>
        <p:spPr>
          <a:xfrm>
            <a:off x="9293400" y="5270400"/>
            <a:ext cx="2330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Hans-Jörg Happ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Text Box 31"/>
          <p:cNvSpPr/>
          <p:nvPr/>
        </p:nvSpPr>
        <p:spPr>
          <a:xfrm>
            <a:off x="11093400" y="4753080"/>
            <a:ext cx="15224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Heiko Hall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Text Box 32"/>
          <p:cNvSpPr/>
          <p:nvPr/>
        </p:nvSpPr>
        <p:spPr>
          <a:xfrm>
            <a:off x="656640" y="5572080"/>
            <a:ext cx="16794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Holger Lewe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Text Box 33"/>
          <p:cNvSpPr/>
          <p:nvPr/>
        </p:nvSpPr>
        <p:spPr>
          <a:xfrm>
            <a:off x="1305000" y="3294000"/>
            <a:ext cx="26622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Sebastian Blohm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Text Box 34"/>
          <p:cNvSpPr/>
          <p:nvPr/>
        </p:nvSpPr>
        <p:spPr>
          <a:xfrm>
            <a:off x="3031200" y="7823160"/>
            <a:ext cx="14979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Yimin Wan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Text Box 35"/>
          <p:cNvSpPr/>
          <p:nvPr/>
        </p:nvSpPr>
        <p:spPr>
          <a:xfrm>
            <a:off x="2239920" y="6697800"/>
            <a:ext cx="266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Philipp Sor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09" name="Group 36"/>
          <p:cNvGrpSpPr/>
          <p:nvPr/>
        </p:nvGrpSpPr>
        <p:grpSpPr>
          <a:xfrm>
            <a:off x="4003560" y="4035600"/>
            <a:ext cx="5697360" cy="3329280"/>
            <a:chOff x="4003560" y="4035600"/>
            <a:chExt cx="5697360" cy="3329280"/>
          </a:xfrm>
        </p:grpSpPr>
        <p:sp>
          <p:nvSpPr>
            <p:cNvPr id="610" name="AutoShape 37"/>
            <p:cNvSpPr/>
            <p:nvPr/>
          </p:nvSpPr>
          <p:spPr>
            <a:xfrm>
              <a:off x="4003560" y="4035600"/>
              <a:ext cx="5697360" cy="397080"/>
            </a:xfrm>
            <a:prstGeom prst="roundRect">
              <a:avLst>
                <a:gd name="adj" fmla="val 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1" name="Text Box 38"/>
            <p:cNvSpPr/>
            <p:nvPr/>
          </p:nvSpPr>
          <p:spPr>
            <a:xfrm>
              <a:off x="4003560" y="4035600"/>
              <a:ext cx="5697360" cy="332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Knowledge Managemen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Semantic Web Application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Electronic Marke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eGovernmen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Semantic Web Infrastructur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Ontology Managemen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Data/Text/Web Mining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Peer-to-Pee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Semantic Web Service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12" name="Text Box 39"/>
          <p:cNvSpPr/>
          <p:nvPr/>
        </p:nvSpPr>
        <p:spPr>
          <a:xfrm>
            <a:off x="10112400" y="4137120"/>
            <a:ext cx="1887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imone Brau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Text Box 40"/>
          <p:cNvSpPr/>
          <p:nvPr/>
        </p:nvSpPr>
        <p:spPr>
          <a:xfrm>
            <a:off x="8557560" y="8618400"/>
            <a:ext cx="412560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  <a:ea typeface="Arial"/>
              </a:rPr>
              <a:t>+  ca. 40 people at Ontoprise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Text Box 41"/>
          <p:cNvSpPr/>
          <p:nvPr/>
        </p:nvSpPr>
        <p:spPr>
          <a:xfrm>
            <a:off x="871200" y="6249960"/>
            <a:ext cx="21823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Sebastian Rudolph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Text Box 43"/>
          <p:cNvSpPr/>
          <p:nvPr/>
        </p:nvSpPr>
        <p:spPr>
          <a:xfrm>
            <a:off x="893880" y="7010280"/>
            <a:ext cx="266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Duc Thanh Tra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Text Box 44"/>
          <p:cNvSpPr/>
          <p:nvPr/>
        </p:nvSpPr>
        <p:spPr>
          <a:xfrm>
            <a:off x="9293040" y="7210440"/>
            <a:ext cx="25390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Tuvshintur Tserendorj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Text Box 45"/>
          <p:cNvSpPr/>
          <p:nvPr/>
        </p:nvSpPr>
        <p:spPr>
          <a:xfrm>
            <a:off x="8575560" y="8034480"/>
            <a:ext cx="245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Raphael Volz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Text Box 46"/>
          <p:cNvSpPr/>
          <p:nvPr/>
        </p:nvSpPr>
        <p:spPr>
          <a:xfrm>
            <a:off x="10520280" y="5981760"/>
            <a:ext cx="24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Joachim Kleb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Text Box 47"/>
          <p:cNvSpPr/>
          <p:nvPr/>
        </p:nvSpPr>
        <p:spPr>
          <a:xfrm>
            <a:off x="627480" y="8618400"/>
            <a:ext cx="626832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  <a:ea typeface="Arial"/>
              </a:rPr>
              <a:t>+  7 external Ph.D. students at SAP Research 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Text Box 48"/>
          <p:cNvSpPr/>
          <p:nvPr/>
        </p:nvSpPr>
        <p:spPr>
          <a:xfrm>
            <a:off x="8575560" y="3828960"/>
            <a:ext cx="245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Jürgen Bock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Text Box 49"/>
          <p:cNvSpPr/>
          <p:nvPr/>
        </p:nvSpPr>
        <p:spPr>
          <a:xfrm>
            <a:off x="8267760" y="6902280"/>
            <a:ext cx="2458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inan Se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Text Box 50"/>
          <p:cNvSpPr/>
          <p:nvPr/>
        </p:nvSpPr>
        <p:spPr>
          <a:xfrm>
            <a:off x="9599760" y="3425760"/>
            <a:ext cx="2458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Veli Bic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Text Box 52"/>
          <p:cNvSpPr/>
          <p:nvPr/>
        </p:nvSpPr>
        <p:spPr>
          <a:xfrm>
            <a:off x="7039080" y="7927920"/>
            <a:ext cx="2458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Peter Wolf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Text Box 53"/>
          <p:cNvSpPr/>
          <p:nvPr/>
        </p:nvSpPr>
        <p:spPr>
          <a:xfrm>
            <a:off x="7859880" y="3319560"/>
            <a:ext cx="2457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Tian Bai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Text Box 54"/>
          <p:cNvSpPr/>
          <p:nvPr/>
        </p:nvSpPr>
        <p:spPr>
          <a:xfrm>
            <a:off x="8678880" y="5775480"/>
            <a:ext cx="24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Jun M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Text Box 55"/>
          <p:cNvSpPr/>
          <p:nvPr/>
        </p:nvSpPr>
        <p:spPr>
          <a:xfrm>
            <a:off x="8780400" y="2908440"/>
            <a:ext cx="24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Darko Anicic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Text Box 23"/>
          <p:cNvSpPr/>
          <p:nvPr/>
        </p:nvSpPr>
        <p:spPr>
          <a:xfrm>
            <a:off x="1752480" y="5970600"/>
            <a:ext cx="266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Maria Maleshkov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Text Box 22"/>
          <p:cNvSpPr/>
          <p:nvPr/>
        </p:nvSpPr>
        <p:spPr>
          <a:xfrm>
            <a:off x="2522520" y="3630600"/>
            <a:ext cx="2570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Frank Dengl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Text Box 22"/>
          <p:cNvSpPr/>
          <p:nvPr/>
        </p:nvSpPr>
        <p:spPr>
          <a:xfrm>
            <a:off x="3046320" y="7624800"/>
            <a:ext cx="2570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ebastian Speis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Foliennummernplatzhalter 1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FFDE-3A21-4050-B97D-31E5E73A547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537920" y="240840"/>
            <a:ext cx="11085480" cy="15382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000000"/>
                </a:solidFill>
                <a:latin typeface="Bodoni SvtyTwo SC ITC TT-Book"/>
              </a:rPr>
              <a:t>Ausgewählte Partner und Projekte</a:t>
            </a:r>
            <a:endParaRPr b="0" lang="en-US" sz="5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632" name="Picture 3" descr="deri"/>
          <p:cNvPicPr/>
          <p:nvPr/>
        </p:nvPicPr>
        <p:blipFill>
          <a:blip r:embed="rId1"/>
          <a:stretch/>
        </p:blipFill>
        <p:spPr>
          <a:xfrm>
            <a:off x="11584080" y="3778200"/>
            <a:ext cx="1420560" cy="11905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4" descr="dreba_logo"/>
          <p:cNvPicPr/>
          <p:nvPr/>
        </p:nvPicPr>
        <p:blipFill>
          <a:blip r:embed="rId2"/>
          <a:stretch/>
        </p:blipFill>
        <p:spPr>
          <a:xfrm>
            <a:off x="10736280" y="6013440"/>
            <a:ext cx="2268360" cy="53964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26" descr="small_crest"/>
          <p:cNvPicPr/>
          <p:nvPr/>
        </p:nvPicPr>
        <p:blipFill>
          <a:blip r:embed="rId3"/>
          <a:stretch/>
        </p:blipFill>
        <p:spPr>
          <a:xfrm>
            <a:off x="11955600" y="4591080"/>
            <a:ext cx="1049040" cy="126216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7" descr="logitipo-meta4-blanco"/>
          <p:cNvPicPr/>
          <p:nvPr/>
        </p:nvPicPr>
        <p:blipFill>
          <a:blip r:embed="rId4"/>
          <a:stretch/>
        </p:blipFill>
        <p:spPr>
          <a:xfrm>
            <a:off x="4871880" y="7537320"/>
            <a:ext cx="1224000" cy="38592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9" descr="h-banner"/>
          <p:cNvPicPr/>
          <p:nvPr/>
        </p:nvPicPr>
        <p:blipFill>
          <a:blip r:embed="rId5"/>
          <a:stretch/>
        </p:blipFill>
        <p:spPr>
          <a:xfrm>
            <a:off x="1930320" y="8553600"/>
            <a:ext cx="3251160" cy="599760"/>
          </a:xfrm>
          <a:prstGeom prst="rect">
            <a:avLst/>
          </a:prstGeom>
          <a:ln w="0">
            <a:noFill/>
          </a:ln>
        </p:spPr>
      </p:pic>
      <p:grpSp>
        <p:nvGrpSpPr>
          <p:cNvPr id="637" name="Group 10"/>
          <p:cNvGrpSpPr/>
          <p:nvPr/>
        </p:nvGrpSpPr>
        <p:grpSpPr>
          <a:xfrm>
            <a:off x="2411280" y="6826320"/>
            <a:ext cx="3684240" cy="1587240"/>
            <a:chOff x="2411280" y="6826320"/>
            <a:chExt cx="3684240" cy="1587240"/>
          </a:xfrm>
        </p:grpSpPr>
        <p:pic>
          <p:nvPicPr>
            <p:cNvPr id="638" name="Picture 11" descr="0-griffioenEng"/>
            <p:cNvPicPr/>
            <p:nvPr/>
          </p:nvPicPr>
          <p:blipFill>
            <a:blip r:embed="rId6"/>
            <a:srcRect l="69797" t="0" r="0" b="0"/>
            <a:stretch/>
          </p:blipFill>
          <p:spPr>
            <a:xfrm>
              <a:off x="3436200" y="6826320"/>
              <a:ext cx="1254600" cy="130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12" descr="0-griffioenEng"/>
            <p:cNvPicPr/>
            <p:nvPr/>
          </p:nvPicPr>
          <p:blipFill>
            <a:blip r:embed="rId7"/>
            <a:srcRect l="0" t="80008" r="31632" b="0"/>
            <a:stretch/>
          </p:blipFill>
          <p:spPr>
            <a:xfrm>
              <a:off x="2411280" y="7952760"/>
              <a:ext cx="3684240" cy="460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0" name="Picture 13" descr="banner-left"/>
          <p:cNvPicPr/>
          <p:nvPr/>
        </p:nvPicPr>
        <p:blipFill>
          <a:blip r:embed="rId8"/>
          <a:stretch/>
        </p:blipFill>
        <p:spPr>
          <a:xfrm>
            <a:off x="8840880" y="6013440"/>
            <a:ext cx="1014480" cy="11383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4" descr="hplogo"/>
          <p:cNvPicPr/>
          <p:nvPr/>
        </p:nvPicPr>
        <p:blipFill>
          <a:blip r:embed="rId9"/>
          <a:stretch/>
        </p:blipFill>
        <p:spPr>
          <a:xfrm>
            <a:off x="7647120" y="8147160"/>
            <a:ext cx="1191960" cy="993600"/>
          </a:xfrm>
          <a:prstGeom prst="rect">
            <a:avLst/>
          </a:prstGeom>
          <a:ln w="0">
            <a:noFill/>
          </a:ln>
        </p:spPr>
      </p:pic>
      <p:grpSp>
        <p:nvGrpSpPr>
          <p:cNvPr id="642" name="Group 15"/>
          <p:cNvGrpSpPr/>
          <p:nvPr/>
        </p:nvGrpSpPr>
        <p:grpSpPr>
          <a:xfrm>
            <a:off x="11582280" y="6826320"/>
            <a:ext cx="1117440" cy="1517400"/>
            <a:chOff x="11582280" y="6826320"/>
            <a:chExt cx="1117440" cy="1517400"/>
          </a:xfrm>
        </p:grpSpPr>
        <p:pic>
          <p:nvPicPr>
            <p:cNvPr id="643" name="Picture 16" descr="uni_typo_2"/>
            <p:cNvPicPr/>
            <p:nvPr/>
          </p:nvPicPr>
          <p:blipFill>
            <a:blip r:embed="rId10"/>
            <a:srcRect l="54055" t="0" r="0" b="0"/>
            <a:stretch/>
          </p:blipFill>
          <p:spPr>
            <a:xfrm>
              <a:off x="11582280" y="6826320"/>
              <a:ext cx="111744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17" descr="uni_typo_3"/>
            <p:cNvPicPr/>
            <p:nvPr/>
          </p:nvPicPr>
          <p:blipFill>
            <a:blip r:embed="rId11"/>
            <a:srcRect l="54055" t="0" r="0" b="0"/>
            <a:stretch/>
          </p:blipFill>
          <p:spPr>
            <a:xfrm>
              <a:off x="11582280" y="7570800"/>
              <a:ext cx="1117440" cy="772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5" name="Picture 18" descr="e_tiiv"/>
          <p:cNvPicPr/>
          <p:nvPr/>
        </p:nvPicPr>
        <p:blipFill>
          <a:blip r:embed="rId12"/>
          <a:stretch/>
        </p:blipFill>
        <p:spPr>
          <a:xfrm>
            <a:off x="7518240" y="4083120"/>
            <a:ext cx="2463840" cy="79200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9" descr="w3c"/>
          <p:cNvPicPr/>
          <p:nvPr/>
        </p:nvPicPr>
        <p:blipFill>
          <a:blip r:embed="rId13"/>
          <a:stretch/>
        </p:blipFill>
        <p:spPr>
          <a:xfrm>
            <a:off x="10261440" y="7329600"/>
            <a:ext cx="974880" cy="5126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20" descr="ibm"/>
          <p:cNvPicPr/>
          <p:nvPr/>
        </p:nvPicPr>
        <p:blipFill>
          <a:blip r:embed="rId14"/>
          <a:stretch/>
        </p:blipFill>
        <p:spPr>
          <a:xfrm>
            <a:off x="9956880" y="4184640"/>
            <a:ext cx="1299960" cy="6588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21" descr="logo_ibit1"/>
          <p:cNvPicPr/>
          <p:nvPr/>
        </p:nvPicPr>
        <p:blipFill>
          <a:blip r:embed="rId15"/>
          <a:stretch/>
        </p:blipFill>
        <p:spPr>
          <a:xfrm>
            <a:off x="9651960" y="5200560"/>
            <a:ext cx="1397160" cy="6778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22" descr="logo8-color-small"/>
          <p:cNvPicPr/>
          <p:nvPr/>
        </p:nvPicPr>
        <p:blipFill>
          <a:blip r:embed="rId16"/>
          <a:srcRect l="17391" t="0" r="17391" b="0"/>
          <a:stretch/>
        </p:blipFill>
        <p:spPr>
          <a:xfrm>
            <a:off x="84240" y="3676680"/>
            <a:ext cx="2455920" cy="151452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23" descr="KW_logo"/>
          <p:cNvPicPr/>
          <p:nvPr/>
        </p:nvPicPr>
        <p:blipFill>
          <a:blip r:embed="rId17"/>
          <a:stretch/>
        </p:blipFill>
        <p:spPr>
          <a:xfrm>
            <a:off x="203040" y="7496280"/>
            <a:ext cx="1544760" cy="105732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24" descr="sap_logo"/>
          <p:cNvPicPr/>
          <p:nvPr/>
        </p:nvPicPr>
        <p:blipFill>
          <a:blip r:embed="rId18"/>
          <a:stretch/>
        </p:blipFill>
        <p:spPr>
          <a:xfrm>
            <a:off x="9448920" y="3371760"/>
            <a:ext cx="1187280" cy="60012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25" descr="diplogo"/>
          <p:cNvPicPr/>
          <p:nvPr/>
        </p:nvPicPr>
        <p:blipFill>
          <a:blip r:embed="rId19"/>
          <a:srcRect l="0" t="0" r="0" b="15159"/>
          <a:stretch/>
        </p:blipFill>
        <p:spPr>
          <a:xfrm>
            <a:off x="2514600" y="6014880"/>
            <a:ext cx="1735200" cy="92412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7" descr="neon_print"/>
          <p:cNvPicPr/>
          <p:nvPr/>
        </p:nvPicPr>
        <p:blipFill>
          <a:blip r:embed="rId20"/>
          <a:stretch/>
        </p:blipFill>
        <p:spPr>
          <a:xfrm>
            <a:off x="3429000" y="5318280"/>
            <a:ext cx="1636560" cy="6998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8" descr="SPC"/>
          <p:cNvPicPr/>
          <p:nvPr/>
        </p:nvPicPr>
        <p:blipFill>
          <a:blip r:embed="rId21"/>
          <a:stretch/>
        </p:blipFill>
        <p:spPr>
          <a:xfrm>
            <a:off x="4908600" y="3062160"/>
            <a:ext cx="108000" cy="43344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9" descr="SPC"/>
          <p:cNvPicPr/>
          <p:nvPr/>
        </p:nvPicPr>
        <p:blipFill>
          <a:blip r:embed="rId22"/>
          <a:stretch/>
        </p:blipFill>
        <p:spPr>
          <a:xfrm>
            <a:off x="3811680" y="3821040"/>
            <a:ext cx="108000" cy="43344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30" descr="x-media-logo"/>
          <p:cNvPicPr/>
          <p:nvPr/>
        </p:nvPicPr>
        <p:blipFill>
          <a:blip r:embed="rId23"/>
          <a:stretch/>
        </p:blipFill>
        <p:spPr>
          <a:xfrm>
            <a:off x="357120" y="6410160"/>
            <a:ext cx="2252880" cy="52884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31" descr="SESAM-Logo-CMYK_1-klein"/>
          <p:cNvPicPr/>
          <p:nvPr/>
        </p:nvPicPr>
        <p:blipFill>
          <a:blip r:embed="rId24"/>
          <a:stretch/>
        </p:blipFill>
        <p:spPr>
          <a:xfrm>
            <a:off x="1380960" y="6939000"/>
            <a:ext cx="1640160" cy="79704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32" descr="SW-logo_redblue2_640"/>
          <p:cNvPicPr/>
          <p:nvPr/>
        </p:nvPicPr>
        <p:blipFill>
          <a:blip r:embed="rId25"/>
          <a:stretch/>
        </p:blipFill>
        <p:spPr>
          <a:xfrm>
            <a:off x="5630760" y="3270240"/>
            <a:ext cx="2305080" cy="5018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33" descr=""/>
          <p:cNvPicPr/>
          <p:nvPr/>
        </p:nvPicPr>
        <p:blipFill>
          <a:blip r:embed="rId26"/>
          <a:stretch/>
        </p:blipFill>
        <p:spPr>
          <a:xfrm>
            <a:off x="5375160" y="3979800"/>
            <a:ext cx="1228680" cy="808200"/>
          </a:xfrm>
          <a:prstGeom prst="rect">
            <a:avLst/>
          </a:prstGeom>
          <a:ln w="0">
            <a:noFill/>
          </a:ln>
        </p:spPr>
      </p:pic>
      <p:sp>
        <p:nvSpPr>
          <p:cNvPr id="660" name="Line 39"/>
          <p:cNvSpPr/>
          <p:nvPr/>
        </p:nvSpPr>
        <p:spPr>
          <a:xfrm flipV="1">
            <a:off x="812880" y="2152440"/>
            <a:ext cx="9144000" cy="711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61" name="Picture 40" descr="nepomuk"/>
          <p:cNvPicPr/>
          <p:nvPr/>
        </p:nvPicPr>
        <p:blipFill>
          <a:blip r:embed="rId27"/>
          <a:stretch/>
        </p:blipFill>
        <p:spPr>
          <a:xfrm>
            <a:off x="2201760" y="4613400"/>
            <a:ext cx="2048040" cy="99360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41" descr="wiman-logo"/>
          <p:cNvPicPr/>
          <p:nvPr/>
        </p:nvPicPr>
        <p:blipFill>
          <a:blip r:embed="rId28"/>
          <a:stretch/>
        </p:blipFill>
        <p:spPr>
          <a:xfrm>
            <a:off x="3759120" y="3740040"/>
            <a:ext cx="1362240" cy="115596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3" descr="project_halo_logo"/>
          <p:cNvPicPr/>
          <p:nvPr/>
        </p:nvPicPr>
        <p:blipFill>
          <a:blip r:embed="rId29"/>
          <a:stretch/>
        </p:blipFill>
        <p:spPr>
          <a:xfrm>
            <a:off x="460440" y="5097600"/>
            <a:ext cx="1741320" cy="101736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44" descr="SemanticMediaWiki_200"/>
          <p:cNvPicPr/>
          <p:nvPr/>
        </p:nvPicPr>
        <p:blipFill>
          <a:blip r:embed="rId30"/>
          <a:stretch/>
        </p:blipFill>
        <p:spPr>
          <a:xfrm>
            <a:off x="174600" y="2484360"/>
            <a:ext cx="1247760" cy="129384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45"/>
          <p:cNvSpPr/>
          <p:nvPr/>
        </p:nvSpPr>
        <p:spPr>
          <a:xfrm>
            <a:off x="1117440" y="3328920"/>
            <a:ext cx="24861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1700" spc="-1" strike="noStrike">
                <a:solidFill>
                  <a:srgbClr val="7f7f7f"/>
                </a:solidFill>
                <a:latin typeface="Arial Rounded MT Bold"/>
                <a:ea typeface="ヒラギノ角ゴ Pro W3"/>
              </a:rPr>
              <a:t>Semantic MediaWiki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66" name="Picture 51" descr="kcms_img"/>
          <p:cNvPicPr/>
          <p:nvPr/>
        </p:nvPicPr>
        <p:blipFill>
          <a:blip r:embed="rId31"/>
          <a:stretch/>
        </p:blipFill>
        <p:spPr>
          <a:xfrm>
            <a:off x="6635880" y="2378160"/>
            <a:ext cx="2220840" cy="68904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5" descr=""/>
          <p:cNvPicPr/>
          <p:nvPr/>
        </p:nvPicPr>
        <p:blipFill>
          <a:blip r:embed="rId32"/>
          <a:stretch/>
        </p:blipFill>
        <p:spPr>
          <a:xfrm>
            <a:off x="10871280" y="2558880"/>
            <a:ext cx="1914480" cy="81288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0" descr=""/>
          <p:cNvPicPr/>
          <p:nvPr/>
        </p:nvPicPr>
        <p:blipFill>
          <a:blip r:embed="rId33"/>
          <a:stretch/>
        </p:blipFill>
        <p:spPr>
          <a:xfrm>
            <a:off x="1512720" y="2355840"/>
            <a:ext cx="2043360" cy="91440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52" descr=""/>
          <p:cNvPicPr/>
          <p:nvPr/>
        </p:nvPicPr>
        <p:blipFill>
          <a:blip r:embed="rId34"/>
          <a:stretch/>
        </p:blipFill>
        <p:spPr>
          <a:xfrm>
            <a:off x="3657600" y="2558880"/>
            <a:ext cx="1544760" cy="109728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49" descr=""/>
          <p:cNvPicPr/>
          <p:nvPr/>
        </p:nvPicPr>
        <p:blipFill>
          <a:blip r:embed="rId35"/>
          <a:stretch/>
        </p:blipFill>
        <p:spPr>
          <a:xfrm>
            <a:off x="5068800" y="2468520"/>
            <a:ext cx="1433520" cy="700200"/>
          </a:xfrm>
          <a:prstGeom prst="rect">
            <a:avLst/>
          </a:prstGeom>
          <a:ln w="0">
            <a:noFill/>
          </a:ln>
        </p:spPr>
      </p:pic>
      <p:pic>
        <p:nvPicPr>
          <p:cNvPr id="671" name="Grafik 50" descr="header_daimler.gif"/>
          <p:cNvPicPr/>
          <p:nvPr/>
        </p:nvPicPr>
        <p:blipFill>
          <a:blip r:embed="rId36"/>
          <a:srcRect l="0" t="0" r="75297" b="0"/>
          <a:stretch/>
        </p:blipFill>
        <p:spPr>
          <a:xfrm>
            <a:off x="8839080" y="8147160"/>
            <a:ext cx="2641680" cy="931680"/>
          </a:xfrm>
          <a:prstGeom prst="rect">
            <a:avLst/>
          </a:prstGeom>
          <a:ln w="0">
            <a:noFill/>
          </a:ln>
        </p:spPr>
      </p:pic>
      <p:pic>
        <p:nvPicPr>
          <p:cNvPr id="672" name="Grafik 51" descr="ox_small_cmyk_pos.gif"/>
          <p:cNvPicPr/>
          <p:nvPr/>
        </p:nvPicPr>
        <p:blipFill>
          <a:blip r:embed="rId37"/>
          <a:stretch/>
        </p:blipFill>
        <p:spPr>
          <a:xfrm>
            <a:off x="6299280" y="68263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" descr="C:\DATA\scm-misc\aifb-svn\ls3internal\dissemination-materials\logos-partners\CERTH Athens\ITI Logo small.tif"/>
          <p:cNvPicPr/>
          <p:nvPr/>
        </p:nvPicPr>
        <p:blipFill>
          <a:blip r:embed="rId38"/>
          <a:stretch/>
        </p:blipFill>
        <p:spPr>
          <a:xfrm>
            <a:off x="6353280" y="8248680"/>
            <a:ext cx="961920" cy="857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2" descr="C:\DATA\scm-misc\aifb-svn\ls3internal\dissemination-materials\logos-partners\UPC Madrid\Logo_UPM_large.jpg"/>
          <p:cNvPicPr/>
          <p:nvPr/>
        </p:nvPicPr>
        <p:blipFill>
          <a:blip r:embed="rId39"/>
          <a:stretch/>
        </p:blipFill>
        <p:spPr>
          <a:xfrm>
            <a:off x="5079960" y="6013440"/>
            <a:ext cx="914400" cy="12128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3" descr="C:\DATA\scm-misc\aifb-svn\ls3internal\dissemination-materials\logos-partners\jsi\JSI-Logo.gif"/>
          <p:cNvPicPr/>
          <p:nvPr/>
        </p:nvPicPr>
        <p:blipFill>
          <a:blip r:embed="rId40"/>
          <a:stretch/>
        </p:blipFill>
        <p:spPr>
          <a:xfrm>
            <a:off x="7721640" y="7334280"/>
            <a:ext cx="2438280" cy="41760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C:\DATA\scm-misc\aifb-svn\ls3internal\dissemination-materials\logos-partners\bt\BT_mark_4col_pos.png"/>
          <p:cNvPicPr/>
          <p:nvPr/>
        </p:nvPicPr>
        <p:blipFill>
          <a:blip r:embed="rId41"/>
          <a:stretch/>
        </p:blipFill>
        <p:spPr>
          <a:xfrm>
            <a:off x="6594480" y="5607000"/>
            <a:ext cx="2143080" cy="101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2F53-0D37-4EBE-8003-872C8A4EEF8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emantic Karlsruhe: Lehr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79" name="Rectangle 2"/>
          <p:cNvSpPr/>
          <p:nvPr/>
        </p:nvSpPr>
        <p:spPr>
          <a:xfrm>
            <a:off x="1612800" y="1981080"/>
            <a:ext cx="8153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160e"/>
                </a:solidFill>
                <a:latin typeface="Arial"/>
                <a:ea typeface="Arial"/>
              </a:rPr>
              <a:t>Interesse an Lehrveranstaltungen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841040" y="3352320"/>
            <a:ext cx="7696440" cy="582948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t">
            <a:normAutofit/>
          </a:bodyPr>
          <a:p>
            <a:pPr marL="320760" indent="-28116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Helvetica Neue"/>
              </a:rPr>
              <a:t>Wintersemester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Angewandte Informatik I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Semantic Web Technologies I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Seminar Wissensmanagement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Knowledge Discovery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3207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Helvetica Neue"/>
              </a:rPr>
              <a:t>Sommersemester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Semantic Web Technologies II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Seminar Knowledge Discovery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Wissensmanagement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3207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Lehrangebot gilt für alle Studienrichtungen: Informationswirtschaft, Wirtschaftsingenieurwesen, technische VWL, Wirtschaftsmathematik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3207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Wahlmöglichkeiten entsprechend alter oder neuer Prüfungsordnung (Diplom bzw. Bachelor/Master)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F1C7-5039-4309-9340-2AE423C0B4D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536480" y="240840"/>
            <a:ext cx="1112508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odoni SvtyTwo SC ITC TT-Book"/>
              </a:rPr>
              <a:t>Semantic Karlsruhe: We Want You</a:t>
            </a:r>
            <a:endParaRPr b="0" lang="en-US" sz="5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83" name="Rectangle 2"/>
          <p:cNvSpPr/>
          <p:nvPr/>
        </p:nvSpPr>
        <p:spPr>
          <a:xfrm>
            <a:off x="2425680" y="2684520"/>
            <a:ext cx="81532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160e"/>
                </a:solidFill>
                <a:latin typeface="Helvetica Neue"/>
              </a:rPr>
              <a:t>Interesse an Mitarbeit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414160" y="3995640"/>
            <a:ext cx="7696440" cy="407664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t">
            <a:normAutofit/>
          </a:bodyPr>
          <a:p>
            <a:pPr marL="320760" indent="-281160">
              <a:spcBef>
                <a:spcPts val="24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Mitarbeit an praxisrelevanten internationalen Forschungsprojekten im Rahmen von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HiWi-Tätigkeit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eminaren / Praktika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tudien- / Diplomarbeit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5" name="Rectangle 4"/>
          <p:cNvSpPr/>
          <p:nvPr/>
        </p:nvSpPr>
        <p:spPr>
          <a:xfrm>
            <a:off x="2819520" y="6130800"/>
            <a:ext cx="553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http://www.aifb.uni-karlsruhe.de/WB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2514600" y="6856560"/>
          <a:ext cx="7813800" cy="1703160"/>
        </p:xfrm>
        <a:graphic>
          <a:graphicData uri="http://schemas.openxmlformats.org/drawingml/2006/table">
            <a:tbl>
              <a:tblPr/>
              <a:tblGrid>
                <a:gridCol w="3887640"/>
                <a:gridCol w="3926160"/>
              </a:tblGrid>
              <a:tr h="4068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Wissens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emantic Web Infrastruc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8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emantic Web und Web 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Data/Text Mining, NL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7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Intelligente WWW-Applikation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Ontology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8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Business Intellig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emantic Web Serv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1933-DFF4-46DA-9259-E7F9F5E3538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stellung der Doze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65530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M.Sc. Markus Krötzsch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ince Mar. 2005: PhD student and research assistant in Prof. Rudi Studer's group at Institute AIFB of Universität Karlsruhe (TH)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Feb. 2005: Master of Science in Computational Logic, degree 1.0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Jun.–Aug. 2004: visit at CWRU Cleveland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3–2005: Study of Computational Logic at the ICCL of TU Dresd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0–2003: Study of Computer Science at Technische Universität Dresden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7442280" y="5168880"/>
            <a:ext cx="331452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emen: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issensrepräsent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mantic Web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mantische Wiki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ogik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omplexitätstheori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8153280" y="3048120"/>
            <a:ext cx="1905120" cy="26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828B-613A-4737-8CE8-54A863DB2E5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stellung der Doze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05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PD Dr. Pascal Hitzler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1998 Diplom Mathematik, Tübing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1 Dissertation in Mathematik, Cork, Irland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5 Habilitation in Informatik, TU Dresd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chwerpunkt Künstliche Intelligenz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eit Mitte 2004 als Projektleiter am AIFB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hemen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Wissensverarbeitung, formale Grundlagen bis zur Anwendu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emantic Web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Nonmonotonic Reason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Neurosymbolische Integr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Begriffsstruktur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heorie der Semantik von Programmiersprach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www.pascal-hitzler.de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2"/>
          <a:stretch/>
        </p:blipFill>
        <p:spPr>
          <a:xfrm>
            <a:off x="8292960" y="2819520"/>
            <a:ext cx="162720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20F0-0744-45F6-AA09-0F87B5157B6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stellung der Doze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Dr. Sebastian Rudolph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1995 – 2000 Studium Lehram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Mathematik/Physik/Informatik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U Dresd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0 – 2003 Stipendiat im Graduiertenkolleg 334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U Dresden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3 – 2005 wissenschaftlicher Mitarbeiter an d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Professur für die Psychologie d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Lehrens und Lernens, TU Dresd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6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Promotion in Mathematik, TU Dresd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eit 2006 als Postdoc am AIFB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7442280" y="5168880"/>
            <a:ext cx="460512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emen: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rmale Aspekte der Wissensverarbeitun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ogik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omplexitätstheori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rmale Begriffsanalys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NLP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-Learnin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5" name="Picture 4" descr=""/>
          <p:cNvPicPr/>
          <p:nvPr/>
        </p:nvPicPr>
        <p:blipFill>
          <a:blip r:embed="rId1"/>
          <a:stretch/>
        </p:blipFill>
        <p:spPr>
          <a:xfrm>
            <a:off x="8158320" y="3246480"/>
            <a:ext cx="1904760" cy="226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9843-0278-4EF5-BDB7-77812531EA5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orstellung der Doze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Organisatorisches zur Vorlesung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as ist das "Semantic Web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Semantic Karlsruhe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ACB9-38A1-4C23-BB7B-C2FD9DCE951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1585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rganisatorisches: Zeit und Or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17240" y="1852560"/>
            <a:ext cx="10464840" cy="425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orlesung:  mittwochs, 11:30 - 13:00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Übung:       montags,    11:30 - 13:00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(zweiwöchentlich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rt:             Raum 231, Geb. 11.40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oll die Vorlesung verlegt werden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82" name="Picture 3" descr=""/>
          <p:cNvPicPr/>
          <p:nvPr/>
        </p:nvPicPr>
        <p:blipFill>
          <a:blip r:embed="rId1"/>
          <a:stretch/>
        </p:blipFill>
        <p:spPr>
          <a:xfrm>
            <a:off x="6654960" y="5799240"/>
            <a:ext cx="5046480" cy="38354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"/>
          <p:cNvPicPr/>
          <p:nvPr/>
        </p:nvPicPr>
        <p:blipFill>
          <a:blip r:embed="rId2"/>
          <a:stretch/>
        </p:blipFill>
        <p:spPr>
          <a:xfrm>
            <a:off x="876240" y="5829480"/>
            <a:ext cx="5219640" cy="3684240"/>
          </a:xfrm>
          <a:prstGeom prst="rect">
            <a:avLst/>
          </a:prstGeom>
          <a:ln w="0">
            <a:noFill/>
          </a:ln>
        </p:spPr>
      </p:pic>
      <p:sp>
        <p:nvSpPr>
          <p:cNvPr id="384" name="Oval 5"/>
          <p:cNvSpPr/>
          <p:nvPr/>
        </p:nvSpPr>
        <p:spPr>
          <a:xfrm>
            <a:off x="2870280" y="8636040"/>
            <a:ext cx="482400" cy="533520"/>
          </a:xfrm>
          <a:prstGeom prst="ellipse">
            <a:avLst/>
          </a:prstGeom>
          <a:noFill/>
          <a:ln w="6336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Oval 6"/>
          <p:cNvSpPr/>
          <p:nvPr/>
        </p:nvSpPr>
        <p:spPr>
          <a:xfrm>
            <a:off x="6603840" y="8686800"/>
            <a:ext cx="1028880" cy="1066680"/>
          </a:xfrm>
          <a:prstGeom prst="ellipse">
            <a:avLst/>
          </a:prstGeom>
          <a:noFill/>
          <a:ln w="6336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7728-E667-49B2-B7F2-A2C323153BF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rganisatorisches: Aktuell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70080" y="2768400"/>
            <a:ext cx="112521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bseite mit aktuellen Infos:</a:t>
            </a:r>
            <a:br>
              <a:rPr sz="42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http://semantic-web-grundlagen.de/wiki/SWebT1_WS08/09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ktuelle Info ist in der Regel nicht im KIT Studierendenportal, sondern auf obiger Webseite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ailingliste: Bitte eintragen wie auf Webseite verzeichnet. Wir gehen davon aus, dass Mails an die Liste alle Teilnehmer erreich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1:45Z</dcterms:created>
  <dc:creator/>
  <dc:description/>
  <cp:keywords/>
  <dc:language>en-US</dc:language>
  <cp:lastModifiedBy>Sebastian Rudolph</cp:lastModifiedBy>
  <dcterms:modified xsi:type="dcterms:W3CDTF">2008-10-21T21:15:23Z</dcterms:modified>
  <cp:revision>49</cp:revision>
  <dc:subject/>
  <dc:title>Semantic Web Technologies I</dc:title>
</cp:coreProperties>
</file>